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6360" y="379512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4992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684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732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636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2684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732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a968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000" y="314280"/>
            <a:ext cx="7893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4a968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a968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4992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6360" y="379512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4992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7320" y="135216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636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7320" y="3795120"/>
            <a:ext cx="26287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314280"/>
            <a:ext cx="7893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4a968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49920" y="379512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9920" y="1352160"/>
            <a:ext cx="39841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6360" y="3795120"/>
            <a:ext cx="81644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ESLOGO" descr=""/>
          <p:cNvPicPr/>
          <p:nvPr/>
        </p:nvPicPr>
        <p:blipFill>
          <a:blip r:embed="rId2"/>
          <a:stretch/>
        </p:blipFill>
        <p:spPr>
          <a:xfrm>
            <a:off x="7704000" y="6300720"/>
            <a:ext cx="1247760" cy="51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51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228600">
              <a:spcBef>
                <a:spcPts val="451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0120" y="666756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356C-1643-45D4-9B11-B13016F3FE19}" type="slidenum">
              <a:rPr b="0" i="1" lang="en-GB" sz="9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0120" y="666756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C300-1524-46D8-8564-D4DA9CF2DC9F}" type="slidenum">
              <a:rPr b="0" i="1" lang="en-GB" sz="9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35480" y="1332000"/>
            <a:ext cx="4178160" cy="10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5f54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pic>
        <p:nvPicPr>
          <p:cNvPr id="42" name="DC_b" descr=""/>
          <p:cNvPicPr/>
          <p:nvPr/>
        </p:nvPicPr>
        <p:blipFill>
          <a:blip r:embed="rId2"/>
          <a:stretch/>
        </p:blipFill>
        <p:spPr>
          <a:xfrm>
            <a:off x="7728120" y="6367320"/>
            <a:ext cx="1099800" cy="41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968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a9682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14400" indent="19080" algn="ctr">
              <a:spcBef>
                <a:spcPts val="349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326"/>
              </a:spcBef>
              <a:buClr>
                <a:srgbClr val="4a968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326"/>
              </a:spcBef>
              <a:buClr>
                <a:srgbClr val="4a9682"/>
              </a:buClr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326"/>
              </a:spcBef>
              <a:buClr>
                <a:srgbClr val="4d4d4d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326"/>
              </a:spcBef>
              <a:buClr>
                <a:srgbClr val="4d4d4d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ar%20blue" descr=""/>
          <p:cNvPicPr/>
          <p:nvPr/>
        </p:nvPicPr>
        <p:blipFill>
          <a:blip r:embed="rId1"/>
          <a:stretch/>
        </p:blipFill>
        <p:spPr>
          <a:xfrm>
            <a:off x="1879560" y="1422360"/>
            <a:ext cx="2158920" cy="44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2160" y="1785600"/>
            <a:ext cx="510516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200" spc="-1" strike="noStrike">
                <a:solidFill>
                  <a:srgbClr val="355f54"/>
                </a:solidFill>
                <a:latin typeface="Arial"/>
              </a:rPr>
              <a:t>Progetto BENE: Customer Service Center per Business Unit IP - Costi</a:t>
            </a:r>
            <a:br>
              <a:rPr sz="2200"/>
            </a:br>
            <a:br>
              <a:rPr sz="2200"/>
            </a:b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Maggio 2000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200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143000" y="0"/>
            <a:ext cx="693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63800" y="89856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63800" y="200484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63800" y="312408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290160" y="898560"/>
            <a:ext cx="1469880" cy="311472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33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79960" y="898560"/>
            <a:ext cx="2027160" cy="202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9966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70920" y="898560"/>
            <a:ext cx="1695240" cy="20271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33cc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23200" y="938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-CRM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21040" y="1978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.mgmt &amp; assur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21040" y="31003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&amp; Fin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7920" y="91764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870120"/>
            <a:ext cx="22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processi, organizzazione e forma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78840" y="882720"/>
            <a:ext cx="16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Tecnologica e Applica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1760" y="217332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43440" y="21747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1,7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0280" y="204804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3440" y="4222800"/>
            <a:ext cx="33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Totali: Fees (inc. spese)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3,2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3520" y="422280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S/W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6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37960" y="42102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Totale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: 21,3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200" y="304560"/>
            <a:ext cx="7893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5f54"/>
                </a:solidFill>
                <a:latin typeface="Arial"/>
              </a:rPr>
              <a:t>Stima costi: Fase 1 - Settembre 2000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2040" y="11667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,8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 :</a:t>
            </a: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9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19440" y="2262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</a:t>
            </a: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6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2040" y="3384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 :</a:t>
            </a: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46160" y="42228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H/W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,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8840" y="4681440"/>
            <a:ext cx="8631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Contiene le Business Capabilities conseguate a Settebre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Non contiene l’evoluzione di Portal, SIU, legacy OM e assurance.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72040" y="3139920"/>
            <a:ext cx="216072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49920" y="3641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15600" y="31035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Evoluzione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40760" y="3154320"/>
            <a:ext cx="162720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4040" y="3656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22400" y="30924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234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/>
          <p:cNvSpPr/>
          <p:nvPr/>
        </p:nvSpPr>
        <p:spPr>
          <a:xfrm>
            <a:off x="1143000" y="0"/>
            <a:ext cx="693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63800" y="89856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63800" y="200484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63800" y="312408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290160" y="898560"/>
            <a:ext cx="1469880" cy="311472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33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9960" y="898560"/>
            <a:ext cx="2027160" cy="202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9966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70920" y="898560"/>
            <a:ext cx="1695240" cy="20271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33cc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23200" y="938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-CRM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21040" y="1978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.mgmt &amp; assur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21040" y="31003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&amp; Fin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7920" y="91764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870120"/>
            <a:ext cx="22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processi, organizzazione e forma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78840" y="882720"/>
            <a:ext cx="16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Tecnologica e Applica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1760" y="217332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30840" y="21747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62880" y="204804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3440" y="4222800"/>
            <a:ext cx="32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Totali: Fees (inc. spese)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,2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3520" y="422280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S/W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75400" y="42102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Totale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: 2,2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200" y="304560"/>
            <a:ext cx="7893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5f54"/>
                </a:solidFill>
                <a:latin typeface="Arial"/>
              </a:rPr>
              <a:t>Stima costi: Fase 2 - Nov/Dec 2000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2040" y="1128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 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19440" y="2262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9440" y="33717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 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6160" y="42228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H/W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8840" y="4681440"/>
            <a:ext cx="8631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Billing Evoluzione Portal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Mediation Evoluzione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Integrazione con legacy OM, existing Assurance &amp; CTI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72040" y="3139920"/>
            <a:ext cx="216072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75480" y="3641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,2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15600" y="31035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Evoluzione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40760" y="3154320"/>
            <a:ext cx="162720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61440" y="3656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6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22400" y="30924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268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1143000" y="0"/>
            <a:ext cx="693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63800" y="89856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63800" y="200484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3800" y="312408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290160" y="898560"/>
            <a:ext cx="1469880" cy="311472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33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79960" y="898560"/>
            <a:ext cx="2027160" cy="202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9966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70920" y="898560"/>
            <a:ext cx="1695240" cy="20271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33cc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23200" y="938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-CRM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21040" y="1978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.mgmt &amp; assur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21040" y="31003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&amp; Fin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7920" y="91764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76720" y="870120"/>
            <a:ext cx="22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processi, organizzazione e forma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78840" y="882720"/>
            <a:ext cx="16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Tecnologica e Applica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1760" y="217332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30840" y="21747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7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62880" y="204804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,2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    2,5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3800" y="422280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Totali: Fees (inc. spese)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6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53520" y="422280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S/W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6,4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76120" y="4210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Totale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7,7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200" y="304560"/>
            <a:ext cx="7893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5f54"/>
                </a:solidFill>
                <a:latin typeface="Arial"/>
              </a:rPr>
              <a:t>Stima costi: Fase 0-2 Totali Revised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06840" y="1154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,8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9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06840" y="2262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6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06840" y="33717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160" y="42228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H/W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5,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8840" y="4681440"/>
            <a:ext cx="8631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Progetto Presto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marL="186480" indent="-18648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Progetto Bene including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lvl="1" marL="931680" indent="-279720">
              <a:lnSpc>
                <a:spcPct val="100000"/>
              </a:lnSpc>
              <a:spcBef>
                <a:spcPts val="326"/>
              </a:spcBef>
              <a:buClr>
                <a:srgbClr val="4a968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4d4d4d"/>
                </a:solidFill>
                <a:latin typeface="Arial"/>
              </a:rPr>
              <a:t>Portal Billing e SIU Mediation Evoluzione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lvl="1" marL="931680" indent="-279720">
              <a:lnSpc>
                <a:spcPct val="100000"/>
              </a:lnSpc>
              <a:spcBef>
                <a:spcPts val="326"/>
              </a:spcBef>
              <a:buClr>
                <a:srgbClr val="4a968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4d4d4d"/>
                </a:solidFill>
                <a:latin typeface="Arial"/>
              </a:rPr>
              <a:t>Integrazione con legacy OM &amp; existing assurance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lvl="1" marL="931680" indent="-279720">
              <a:lnSpc>
                <a:spcPct val="100000"/>
              </a:lnSpc>
              <a:spcBef>
                <a:spcPts val="326"/>
              </a:spcBef>
              <a:buClr>
                <a:srgbClr val="4a968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4d4d4d"/>
                </a:solidFill>
                <a:latin typeface="Arial"/>
              </a:rPr>
              <a:t>CTI Integrazione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2040" y="3139920"/>
            <a:ext cx="216072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37320" y="3641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,2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5600" y="31035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Evoluzione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40760" y="3154320"/>
            <a:ext cx="162720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8480" y="3656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1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22400" y="30924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302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1143000" y="0"/>
            <a:ext cx="693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63800" y="89856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63800" y="200484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63800" y="312408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800000">
            <a:off x="290160" y="898560"/>
            <a:ext cx="1469880" cy="311472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33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79960" y="898560"/>
            <a:ext cx="2027160" cy="202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9966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70920" y="898560"/>
            <a:ext cx="1695240" cy="20271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33cc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23200" y="938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-CRM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21040" y="1978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.mgmt &amp; assur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21040" y="31003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&amp; Fin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7920" y="91764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870120"/>
            <a:ext cx="22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processi, organizzazione e forma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78840" y="882720"/>
            <a:ext cx="16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Tecnologica e Applica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1760" y="217332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00640" y="217476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3 - 0,5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6840" y="2149560"/>
            <a:ext cx="18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4 - 0,8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0120" y="422280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Totali: Fees (inc. spese): 1,5 - 2,8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42800" y="422280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 0,0 - 2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08280" y="423540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Totale: 1,5 - 4,8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200" y="304560"/>
            <a:ext cx="7893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5f54"/>
                </a:solidFill>
                <a:latin typeface="Arial"/>
              </a:rPr>
              <a:t>Stima costi: Fase 3 - 2001?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52560" y="11541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8 - 1,5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 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 - 2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06840" y="2262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19440" y="33717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12920" y="42228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H/W - 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8840" y="4681440"/>
            <a:ext cx="8631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Arcipelago Xacct Mediation Integrazione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Gestione outbound (da verificare con linea1-2)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2040" y="3139920"/>
            <a:ext cx="216072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37320" y="3641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15600" y="31035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Evoluzione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40760" y="3154320"/>
            <a:ext cx="162720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61440" y="3656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22400" y="30924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336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"/>
          <p:cNvSpPr/>
          <p:nvPr/>
        </p:nvSpPr>
        <p:spPr>
          <a:xfrm>
            <a:off x="1143000" y="0"/>
            <a:ext cx="693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200" y="304560"/>
            <a:ext cx="7893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5f54"/>
                </a:solidFill>
                <a:latin typeface="Arial"/>
              </a:rPr>
              <a:t>Dettaglio costi (revised)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31760" y="85392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4d4d4d"/>
                </a:solidFill>
                <a:uFillTx/>
                <a:latin typeface="Arial"/>
              </a:rPr>
              <a:t>Attività professionali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-4680" y="1208160"/>
            <a:ext cx="5288040" cy="26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78120" y="1222200"/>
            <a:ext cx="82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. risors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00760" y="1222200"/>
            <a:ext cx="123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Area di attività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76400" y="1222200"/>
            <a:ext cx="148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Fees (incl. spese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20800" y="1446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86400" y="144612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. Mgmt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64080" y="144612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20800" y="1665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84600" y="1665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RM-Siebe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64080" y="166536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03520" y="1665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20800" y="1884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82800" y="1884240"/>
            <a:ext cx="149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RM-Broadvision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4080" y="188424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03520" y="1884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20800" y="2103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85320" y="2103480"/>
            <a:ext cx="131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-Order mgmt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64080" y="21034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03520" y="2103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20800" y="2322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83160" y="2322360"/>
            <a:ext cx="103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-Remedy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64080" y="232236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03520" y="2322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20800" y="2541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84960" y="2541600"/>
            <a:ext cx="84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-Billing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64080" y="254160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03520" y="2541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20800" y="2759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84600" y="275904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62640" y="275904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49320" y="2759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20800" y="2978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83520" y="2978280"/>
            <a:ext cx="68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cessi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64080" y="29782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03520" y="2978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20800" y="3197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83160" y="3197160"/>
            <a:ext cx="98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64080" y="319716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03520" y="3197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20800" y="3416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84960" y="341640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i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62640" y="341640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49320" y="3416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68160" y="3629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280" y="3629160"/>
            <a:ext cx="145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53040" y="3629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70200" y="362916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10640" y="3629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98960" y="3987720"/>
            <a:ext cx="4145040" cy="22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65840" y="4003560"/>
            <a:ext cx="177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915320" y="400356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re (000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34160" y="4457880"/>
            <a:ext cx="9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oadvision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20120" y="468324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28040" y="4908600"/>
            <a:ext cx="77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acle db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3280" y="5133960"/>
            <a:ext cx="35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fti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0" y="535932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BC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14720" y="558468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17960" y="581040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32360" y="603108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Sub-tot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6320" y="4011480"/>
            <a:ext cx="398484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3680" y="40273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87840" y="402732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re (000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4120" y="4254480"/>
            <a:ext cx="120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 Front En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77680" y="4476600"/>
            <a:ext cx="256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lication Servers (Production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74440" y="4700520"/>
            <a:ext cx="245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abase Servers (Production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66160" y="4923000"/>
            <a:ext cx="227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Infrastructure (LAN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75160" y="5146560"/>
            <a:ext cx="25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Support Systems (Production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49600" y="5370480"/>
            <a:ext cx="171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elopment Server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59680" y="5592600"/>
            <a:ext cx="204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sting / Training Server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6640" y="5816520"/>
            <a:ext cx="136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llation Cost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15400" y="603900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-tot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05400" y="1212840"/>
            <a:ext cx="3440160" cy="26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32120" y="117792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Area di attività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186680" y="11826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Fees (incl. spese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20240" y="1419120"/>
            <a:ext cx="1570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oluzione Port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oluzione SIU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Sub-tot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763720" y="419040"/>
            <a:ext cx="5486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 Be Revised When Finalize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1760" y="977760"/>
            <a:ext cx="1803960" cy="52020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Proposta effettuat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Aprile 2000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9080" y="977760"/>
            <a:ext cx="18540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Proposta effettuat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24 Maggio 2000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01800"/>
            <a:ext cx="1846440" cy="73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Proposta effettuat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24 Maggio 2000 +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HP “Siu” gia spes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952560"/>
            <a:ext cx="1603080" cy="5202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Proposta Odiern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70640" y="990720"/>
            <a:ext cx="1806840" cy="73332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Proposta Odierna+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HP “Siu” gia spes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0480" y="1587600"/>
            <a:ext cx="1486800" cy="52020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Totale Progett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tl mld         29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10880" y="1587600"/>
            <a:ext cx="14868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Totale Progett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tl mld       29,5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486080"/>
            <a:ext cx="1547640" cy="5202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Totale Progett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tl mld       23,5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49760" y="1663560"/>
            <a:ext cx="1482840" cy="51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Totale Progett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tl mld       33,7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5720" y="1663560"/>
            <a:ext cx="1486800" cy="52020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Totale Progett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tl mld       27,7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8680" y="2197080"/>
            <a:ext cx="1482120" cy="1372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nclude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Provisioning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Mediation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SW non custo-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mizzato nei c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0880" y="64764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4d4d4d"/>
                </a:solidFill>
                <a:uFillTx/>
                <a:latin typeface="Arial"/>
              </a:rPr>
              <a:t>Risparmio pari a -6,0ml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772080"/>
            <a:ext cx="1676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Non Include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ustomizz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Portal e Siu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Outboun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Super-remedy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integr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Archipelag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on Call Center 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Data cente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171880"/>
            <a:ext cx="1676160" cy="22251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nclude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Integr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Provisioning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SW non custo-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mizzato nei c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ustomizz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Portal e Siu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Super-remedy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686480"/>
            <a:ext cx="1676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Non Include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Outboun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Mediation (Siu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integr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Archipelag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on Call Center 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Data cente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2171880"/>
            <a:ext cx="1676160" cy="26514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nclude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Integr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Provisioning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SW non custo-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mizzato nei c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ustomizz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Portal e Siu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Super-remedy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integr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all Center 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Data cente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5200560"/>
            <a:ext cx="167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Non Include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Outboun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Mediation (Siu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integr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Archipelag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49760" y="2171880"/>
            <a:ext cx="1676520" cy="221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nclude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Integr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Provisioning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SW non custo-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mizzato nei c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Customizz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Portal e Siu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Mediation (Siu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Super-remedy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4686480"/>
            <a:ext cx="1676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Non Include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Outboun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integr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Archipelag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Con Call Center 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Data cente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04120" y="2171880"/>
            <a:ext cx="1676520" cy="285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Include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Integr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Provisioning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SW non custo-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mizzato nei c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Customizzazione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Portal e Siu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Mediation (Siu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Super-remedy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integr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Call Center 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4d4d4d"/>
                </a:solidFill>
                <a:latin typeface="Arial"/>
              </a:rPr>
              <a:t>Data cente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5353200"/>
            <a:ext cx="167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Non Include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Outboun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integrazion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"/>
              </a:rPr>
              <a:t>Archipelag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5f54"/>
                </a:solidFill>
                <a:latin typeface="Arial"/>
              </a:rPr>
              <a:t>Executive summary Risparmi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105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I costi del progetto Bene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6360" y="1352160"/>
            <a:ext cx="81644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 </a:t>
            </a:r>
            <a:r>
              <a:rPr b="0" lang="it-IT" sz="1800" spc="-1" strike="noStrike">
                <a:solidFill>
                  <a:srgbClr val="4d4d4d"/>
                </a:solidFill>
                <a:latin typeface="Arial"/>
              </a:rPr>
              <a:t>costi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del progetto sono stati raccolti nelle seguenti categorie: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00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Prestazioni professional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00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09520">
              <a:spcBef>
                <a:spcPts val="400"/>
              </a:spcBef>
              <a:buClr>
                <a:srgbClr val="4a96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 costi di Software ed Hardware sono stati stimati con il solo proposito di consentire una corretta pianificazione ed una stima completa dei costi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 costi reali definitivi verrano inseriti nel contratto assieme alle condizioni di fornitura, ma non sarrano superiori a quelli qui illustrati.  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 costi qui rappresenti si basano su certi assunti, e condizioni, al variare di questi potranno variare i </a:t>
            </a:r>
            <a:r>
              <a:rPr b="0" lang="it-IT" sz="1800" spc="-1" strike="noStrike">
                <a:solidFill>
                  <a:srgbClr val="4d4d4d"/>
                </a:solidFill>
                <a:latin typeface="Arial"/>
              </a:rPr>
              <a:t>costi.(es dimensionamento hw e sw)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110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Costi per Prestazioni Professionali - Assunzioni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6360" y="1589040"/>
            <a:ext cx="816444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L’infrastruttura di base ed il supporto sistemistico saranno forniti da Company Y (spazi e cablatura + workstations)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Company Y renderà disponibile tutte le persone previste per la partecipazione al progetto e sarà pronta al training ed attività di knowledge transfer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Saranno designate le necessarie responsabilità in Company Y per permettere la revisione e firma dei principali deliverables secondo il piano di lavoro ed in forma definitiva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Verrà adottata una metodologia di implementazione dei packages tendente ad utilizzare al massimo livello le funzionalità chiave dei packages, rinunciando a personalizzazioni che impattino il cuore di tali applicativi, con l’eccezione delle modifiche a portal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Sono esclusi eventuali costi associati ad attività di supporto successive all’implementazione (salvo quelle relative a garanzie)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Lo sviluppo verra effettuato sulla base dei requisti con voi concordati e da voi in futuro firmati; questi requisiti dovranno essere conforni ai processi disegnati nel progetto Presto.  Verrà messo a punto  in processo di gestione “dei change” per vedere opportunamente retribuite eventuali attivita addizionali.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400" y="804960"/>
            <a:ext cx="76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Le assunzioni fatte nelle nostre stime sono basate sulle seguenti linee guida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116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Costi Software - Assunzioni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6360" y="1758960"/>
            <a:ext cx="81644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nstallazioni esistenti in Company Y comprendenti licenze Oracle DB e SAP enterprise possono essere riutilizzate. Abbiamo dunque assunto che non vi siano costi di licenze per Oracle DB e SAP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l numero di licenze utente richieste per ogni package sono state stimate in base ai numeri forniti da Company Y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e stime dei costi di Broadvision e Portal sono basate sulle stime di utenti indicate in appendic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l dimensionamento del hw è basato sul numero di utenti e di clienti stimato nel primo anno di attività; questo è scalabile attraverso espansioni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/W e S/W del call center dovra essere gia disponibile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 costi di manutenzione annuale sono esclusi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5400" y="932040"/>
            <a:ext cx="76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Le assunzioni fatte nelle nostre stime sono basate sulle seguenti linee guida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122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Costi Hardware - Assunzioni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6360" y="1671120"/>
            <a:ext cx="81644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a stima è basata su un unico deployment in un unico ambiente di produzion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ono necessari ambienti di sviluppo, collaudo e training separati da quello di produzion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i presuppone che  lo spazio fisico (stanze) per gli ambienti esista in Company Y e non sono necessari costi addizionali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ono stati considerati costi miminali per le funzionalità di backup, UPS e connettività LAN addizionale (per es. hub, cavi) poichè si assume che esse siano già disponibili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Non sono stati considerati eventuali costi per la connettività Internet, routers e firewall esterni, poichè già presenti per il progetto Presto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400" y="932040"/>
            <a:ext cx="76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Le assunzioni fatte nelle nostre stime sono basate sulle seguenti linee guida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128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314280"/>
            <a:ext cx="789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5f54"/>
                </a:solidFill>
                <a:latin typeface="Arial"/>
              </a:rPr>
              <a:t>Avvio del progetto - Assunzioni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6360" y="1671120"/>
            <a:ext cx="81644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vere disponibili 2500mq dedicati e cablati, con accesson ad una lan dedicata con le eventuali connessioni a siti esterni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vere una lettera di intenti in cui siano confermati accordi economici, scopo del progetto e schema dei pagamenti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 schema dei pagamenti deve prevedere un anticipo che copra l’intero ammontare dei costi del sw e dell’hw e tale pagamento dovvrà essere disposto entro 15 gg dall’avvio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a lettera di intenti è impegnativa e non comporterà alcuna altra negoziazione con Company Y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l contratto dovrà essere firmato entro e non oltre un mese dall’avvio lavori pena la loro sospension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5400" y="932040"/>
            <a:ext cx="76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er avviare il progetto sarà necessario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134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1143000" y="0"/>
            <a:ext cx="693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3800" y="89856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63800" y="200484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63800" y="312408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290160" y="898560"/>
            <a:ext cx="1469880" cy="311472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33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9960" y="898560"/>
            <a:ext cx="2027160" cy="202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9966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83520" y="898560"/>
            <a:ext cx="1695240" cy="20271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33cc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23200" y="938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-CRM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21040" y="1978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.mgmt &amp; assur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21040" y="31003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&amp; Fin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920" y="91764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870120"/>
            <a:ext cx="22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processi, organizzazione e forma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78840" y="882720"/>
            <a:ext cx="16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Tecnologica e Applica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760" y="217332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2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56400" y="21747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,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5480" y="204804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3,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    2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3440" y="4222800"/>
            <a:ext cx="33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Totali: Fees (inc. spese)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9,5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53520" y="422280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S/W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7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37960" y="42102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Totale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: 29,5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200" y="304560"/>
            <a:ext cx="7893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5f54"/>
                </a:solidFill>
                <a:latin typeface="Arial"/>
              </a:rPr>
              <a:t>Stima costi: scenario “all new” (Originale del 24 maggio 2000)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19440" y="1116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3,7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 :</a:t>
            </a: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6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19440" y="2262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3,9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</a:t>
            </a: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6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32040" y="3384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 :</a:t>
            </a: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46160" y="42228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d4d4d"/>
                </a:solidFill>
                <a:latin typeface="Arial"/>
              </a:rPr>
              <a:t>H/W -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8840" y="4592520"/>
            <a:ext cx="8631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marL="140760" indent="-14076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I costi indicati sono stime basate su precedenti implementazioni fatte da Deloitte Consulting e/o su benchmark di mercato (nel caso di Business Systems  e Finance) e saranno confermati nel dettaglio alla fine della fase di </a:t>
            </a:r>
            <a:r>
              <a:rPr b="1" i="1" lang="it-IT" sz="1500" spc="-1" strike="noStrike">
                <a:solidFill>
                  <a:srgbClr val="4d4d4d"/>
                </a:solidFill>
                <a:latin typeface="Arial"/>
              </a:rPr>
              <a:t>scoping and planning.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marL="140760" indent="-14076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L’impegno negli stream trasversali dipenderà dalle scelte di Company Y riguardo alle soluzioni di e-CRM, Business Systems e Finance 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marL="140760" indent="-14076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Non include  ciò che è stato speso nel progetto “Presto” HP (4,2 mld h/w &amp; SIU s/w) e le richiete addizionali fatte (integrazione CTI, outbound, e integrazione con Xacct)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2040" y="3139920"/>
            <a:ext cx="216072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9920" y="3641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,3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5600" y="31035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Evoluzione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53360" y="3154320"/>
            <a:ext cx="162720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74040" y="3656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22400" y="30924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1155600" cy="6858000"/>
            <a:chOff x="0" y="0"/>
            <a:chExt cx="1155600" cy="6858000"/>
          </a:xfrm>
        </p:grpSpPr>
        <p:pic>
          <p:nvPicPr>
            <p:cNvPr id="168" name="pale%20car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19240" cy="62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ale%20carb" descr=""/>
            <p:cNvPicPr/>
            <p:nvPr/>
          </p:nvPicPr>
          <p:blipFill>
            <a:blip r:embed="rId2"/>
            <a:stretch/>
          </p:blipFill>
          <p:spPr>
            <a:xfrm>
              <a:off x="0" y="6718320"/>
              <a:ext cx="11556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1143000" y="0"/>
            <a:ext cx="693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3800" y="89856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63800" y="200484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3800" y="3124080"/>
            <a:ext cx="290196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290160" y="898560"/>
            <a:ext cx="1469880" cy="311472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33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79960" y="898560"/>
            <a:ext cx="2027160" cy="202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9966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70920" y="898560"/>
            <a:ext cx="1695240" cy="20271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33cc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23200" y="938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-CRM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21040" y="1978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.mgmt &amp; assur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21040" y="31003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&amp; Financ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7920" y="91764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870120"/>
            <a:ext cx="22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processi, organizzazione e forma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78840" y="882720"/>
            <a:ext cx="169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Tecnologica e Applica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1760" y="217332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0,1*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41920" y="21747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4d4d4d"/>
                </a:solidFill>
                <a:latin typeface="Arial"/>
              </a:rPr>
              <a:t>0,4*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8080" y="2048040"/>
            <a:ext cx="12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      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200" y="304560"/>
            <a:ext cx="7893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5f54"/>
                </a:solidFill>
                <a:latin typeface="Arial"/>
              </a:rPr>
              <a:t>Stima costi: Fase 0 - Progetto Presto Giugno 2000</a:t>
            </a:r>
            <a:endParaRPr b="1" lang="en-US" sz="2000" spc="-1" strike="noStrike">
              <a:solidFill>
                <a:srgbClr val="355f54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2040" y="1141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5*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45000" y="2262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06840" y="3384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6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8840" y="4897440"/>
            <a:ext cx="8631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Progetto Presto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lvl="1" marL="931680" indent="-279720">
              <a:lnSpc>
                <a:spcPct val="100000"/>
              </a:lnSpc>
              <a:spcBef>
                <a:spcPts val="326"/>
              </a:spcBef>
              <a:buClr>
                <a:srgbClr val="4a968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4d4d4d"/>
                </a:solidFill>
                <a:latin typeface="Arial"/>
              </a:rPr>
              <a:t>Portale Presto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lvl="1" marL="931680" indent="-279720">
              <a:lnSpc>
                <a:spcPct val="100000"/>
              </a:lnSpc>
              <a:spcBef>
                <a:spcPts val="326"/>
              </a:spcBef>
              <a:buClr>
                <a:srgbClr val="4a968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4d4d4d"/>
                </a:solidFill>
                <a:latin typeface="Arial"/>
              </a:rPr>
              <a:t>Processi Presto per provisioning, assurance e billing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lvl="1" marL="931680" indent="-279720">
              <a:lnSpc>
                <a:spcPct val="100000"/>
              </a:lnSpc>
              <a:spcBef>
                <a:spcPts val="326"/>
              </a:spcBef>
              <a:buClr>
                <a:srgbClr val="4a968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4d4d4d"/>
                </a:solidFill>
                <a:latin typeface="Arial"/>
              </a:rPr>
              <a:t>Accounting (SIU) per billing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marL="186480" indent="-186480">
              <a:lnSpc>
                <a:spcPct val="100000"/>
              </a:lnSpc>
              <a:spcBef>
                <a:spcPts val="374"/>
              </a:spcBef>
              <a:buClr>
                <a:srgbClr val="4a9682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d4d4d"/>
                </a:solidFill>
                <a:latin typeface="Arial"/>
              </a:rPr>
              <a:t>Billing H/W per Presto e Bene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2040" y="3139920"/>
            <a:ext cx="216072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61000" y="3641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15600" y="31035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lling Evoluzione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53360" y="3154320"/>
            <a:ext cx="1627200" cy="8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cc00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74040" y="3656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Fees: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0,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22400" y="30924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311720"/>
            <a:ext cx="992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14760"/>
                <a:tab algn="l" pos="5245200"/>
                <a:tab algn="l" pos="7149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Totali: Fees (inc. spese): 1,6*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S/W: 0,4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H/W: 3,2 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Totali: 5,2*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4760"/>
                <a:tab algn="l" pos="5245200"/>
                <a:tab algn="l" pos="7149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d4d4d"/>
                </a:solidFill>
                <a:latin typeface="Arial"/>
              </a:rPr>
              <a:t>Totali solo hp: Fees (inc. spese): 0,6</a:t>
            </a:r>
            <a:r>
              <a:rPr b="1" i="1" lang="it-IT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4d4d4d"/>
                </a:solidFill>
                <a:latin typeface="Arial"/>
              </a:rPr>
              <a:t>S/W: 0,4</a:t>
            </a:r>
            <a:r>
              <a:rPr b="1" i="1" lang="it-IT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4d4d4d"/>
                </a:solidFill>
                <a:latin typeface="Arial"/>
              </a:rPr>
              <a:t>H/W: 3,2 </a:t>
            </a:r>
            <a:r>
              <a:rPr b="1" i="1" lang="it-IT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4d4d4d"/>
                </a:solidFill>
                <a:latin typeface="Arial"/>
              </a:rPr>
              <a:t>Totali: 4,2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1520" y="406224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4d4d4d"/>
                </a:solidFill>
                <a:latin typeface="Arial"/>
              </a:rPr>
              <a:t>*Con Deloitte Fe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0:29:29Z</dcterms:created>
  <dc:creator>Carmine Cutone</dc:creator>
  <dc:description/>
  <dc:language>en-US</dc:language>
  <cp:lastModifiedBy>Deloitte Consulting</cp:lastModifiedBy>
  <cp:lastPrinted>2000-05-31T08:27:21Z</cp:lastPrinted>
  <dcterms:modified xsi:type="dcterms:W3CDTF">2001-01-24T11:15:01Z</dcterms:modified>
  <cp:revision>384</cp:revision>
  <dc:subject/>
  <dc:title>Telecom Italia MI.T eCare Solution</dc:title>
</cp:coreProperties>
</file>