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B4AC-3B4C-4200-9126-329140C52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D356-9DF2-450C-8BDF-0A38FC015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B064-D4CF-4DA6-8755-6780DC97A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E957-EBDC-4A4D-A1B3-7E918B224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9650-0AE6-477D-A3B1-EFBC38CA0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3811680"/>
            <a:ext cx="2711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F054F-BDC3-4EA6-95B7-D9506FB15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6FBE-2A9A-4DE8-BBF5-6C5803116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D657-5B9D-41B6-922A-A156B72A9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380520"/>
            <a:ext cx="842004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1AF84-D67A-42FA-A9AA-7701F49E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1EB1-8B48-4611-9B09-915EEE957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381168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8A54-F7D2-4DDC-A54A-3582A0F02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3811680"/>
            <a:ext cx="84200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2ED0-4764-4F92-9DE4-1F4764ADC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g" descr=""/>
          <p:cNvPicPr/>
          <p:nvPr/>
        </p:nvPicPr>
        <p:blipFill>
          <a:blip r:embed="rId2"/>
          <a:srcRect l="22913" t="28465" r="0" b="8346"/>
          <a:stretch/>
        </p:blipFill>
        <p:spPr>
          <a:xfrm>
            <a:off x="289080" y="6165720"/>
            <a:ext cx="1388880" cy="533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08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9692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0E40-31D5-45C5-B823-9E7FCE4C56D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DC_WHT" descr=""/>
          <p:cNvPicPr/>
          <p:nvPr/>
        </p:nvPicPr>
        <p:blipFill>
          <a:blip r:embed="rId3"/>
          <a:stretch/>
        </p:blipFill>
        <p:spPr>
          <a:xfrm>
            <a:off x="390600" y="6243480"/>
            <a:ext cx="120636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84360" y="1371240"/>
            <a:ext cx="577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bar2" descr=""/>
          <p:cNvPicPr/>
          <p:nvPr/>
        </p:nvPicPr>
        <p:blipFill>
          <a:blip r:embed="rId2"/>
          <a:stretch/>
        </p:blipFill>
        <p:spPr>
          <a:xfrm>
            <a:off x="0" y="5977080"/>
            <a:ext cx="9906120" cy="880920"/>
          </a:xfrm>
          <a:prstGeom prst="rect">
            <a:avLst/>
          </a:prstGeom>
          <a:ln w="0">
            <a:noFill/>
          </a:ln>
        </p:spPr>
      </p:pic>
      <p:pic>
        <p:nvPicPr>
          <p:cNvPr id="44" name="DC_WHT" descr=""/>
          <p:cNvPicPr/>
          <p:nvPr/>
        </p:nvPicPr>
        <p:blipFill>
          <a:blip r:embed="rId3"/>
          <a:stretch/>
        </p:blipFill>
        <p:spPr>
          <a:xfrm>
            <a:off x="430200" y="6012000"/>
            <a:ext cx="1747800" cy="598320"/>
          </a:xfrm>
          <a:prstGeom prst="rect">
            <a:avLst/>
          </a:prstGeom>
          <a:ln w="0">
            <a:noFill/>
          </a:ln>
        </p:spPr>
      </p:pic>
      <p:pic>
        <p:nvPicPr>
          <p:cNvPr id="45" name="tag" descr=""/>
          <p:cNvPicPr/>
          <p:nvPr/>
        </p:nvPicPr>
        <p:blipFill>
          <a:blip r:embed="rId4"/>
          <a:stretch/>
        </p:blipFill>
        <p:spPr>
          <a:xfrm>
            <a:off x="6864480" y="6072120"/>
            <a:ext cx="2697120" cy="660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84360" y="1371240"/>
            <a:ext cx="577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ing a Global Billing Solution for a Large Global Provid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67160" y="3886200"/>
            <a:ext cx="569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stems Integration in the e-business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bruary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106200"/>
            <a:ext cx="8420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e mapped process requirements to applications capabil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11560" y="2511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3400" y="3200400"/>
            <a:ext cx="0" cy="914400"/>
          </a:xfrm>
          <a:prstGeom prst="line">
            <a:avLst/>
          </a:prstGeom>
          <a:ln w="1260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560640" y="3700440"/>
            <a:ext cx="538200" cy="474840"/>
          </a:xfrm>
          <a:prstGeom prst="line">
            <a:avLst/>
          </a:prstGeom>
          <a:ln w="1260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74800" y="20221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72800" y="129348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2760" y="297360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ces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7200" y="151956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pplication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otpr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6040" y="1543320"/>
            <a:ext cx="108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lobal Initiati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89880" y="4494600"/>
            <a:ext cx="26906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5240" indent="-1652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Conceptual Systems Architecture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ceptual relationsh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rocesses sup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5880" y="2406600"/>
            <a:ext cx="2651400" cy="1478520"/>
            <a:chOff x="1145880" y="2406600"/>
            <a:chExt cx="2651400" cy="1478520"/>
          </a:xfrm>
        </p:grpSpPr>
        <p:sp>
          <p:nvSpPr>
            <p:cNvPr id="179" name=""/>
            <p:cNvSpPr/>
            <p:nvPr/>
          </p:nvSpPr>
          <p:spPr>
            <a:xfrm>
              <a:off x="1321560" y="3334320"/>
              <a:ext cx="207396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1121400" y="2567880"/>
              <a:ext cx="189000" cy="86400"/>
            </a:xfrm>
            <a:custGeom>
              <a:avLst/>
              <a:gdLst>
                <a:gd name="textAreaLeft" fmla="*/ 41400 w 189000"/>
                <a:gd name="textAreaRight" fmla="*/ 147600 w 189000"/>
                <a:gd name="textAreaTop" fmla="*/ 18720 h 86400"/>
                <a:gd name="textAreaBottom" fmla="*/ 67680 h 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097280" y="2544840"/>
              <a:ext cx="22788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1121400" y="2721240"/>
              <a:ext cx="189000" cy="86400"/>
            </a:xfrm>
            <a:custGeom>
              <a:avLst/>
              <a:gdLst>
                <a:gd name="textAreaLeft" fmla="*/ 41400 w 189000"/>
                <a:gd name="textAreaRight" fmla="*/ 147600 w 189000"/>
                <a:gd name="textAreaTop" fmla="*/ 18720 h 86400"/>
                <a:gd name="textAreaBottom" fmla="*/ 67680 h 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200000">
              <a:off x="1093320" y="2692800"/>
              <a:ext cx="2354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Wholesal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57120" y="2406960"/>
              <a:ext cx="1856160" cy="9162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1680" y="2424600"/>
              <a:ext cx="449280" cy="5346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Bill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76120" y="2424600"/>
              <a:ext cx="549720" cy="8848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Service Deliver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1160" y="2424600"/>
              <a:ext cx="792720" cy="580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96280" y="2727000"/>
              <a:ext cx="508680" cy="569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erform Service Provisioning</a:t>
              </a: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75840" y="2485080"/>
              <a:ext cx="755280" cy="196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Products and Servi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2680" y="2689560"/>
              <a:ext cx="758160" cy="314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rket and Sell Products &amp; Servi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97360" y="2507760"/>
              <a:ext cx="508680" cy="210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erform Order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31800" y="2597400"/>
              <a:ext cx="234000" cy="748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rketing Decision Suppo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80560" y="2742840"/>
              <a:ext cx="232560" cy="748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ducts &amp; Services Catalo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31800" y="2899800"/>
              <a:ext cx="234000" cy="748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080" bIns="28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ales Force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2745360"/>
              <a:ext cx="217800" cy="741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Opportunity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31800" y="2745360"/>
              <a:ext cx="234000" cy="496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80" bIns="2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olution Adviso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36760" y="2744640"/>
              <a:ext cx="2458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Interface Gatewa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6760" y="2841480"/>
              <a:ext cx="2458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ster Street Address Guid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39120" y="2583000"/>
              <a:ext cx="21312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ervice Order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9600" y="2843280"/>
              <a:ext cx="21636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IP Address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09600" y="2930400"/>
              <a:ext cx="21636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elephone Number Admi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4640" y="2508840"/>
              <a:ext cx="428760" cy="424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Bill for Products and Servi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77480" y="2602440"/>
              <a:ext cx="43920" cy="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77480" y="2805120"/>
              <a:ext cx="4392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77480" y="2918880"/>
              <a:ext cx="399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66880" y="2811240"/>
              <a:ext cx="19404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Revenue Assur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70400" y="3287880"/>
              <a:ext cx="29232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ollection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66880" y="2601720"/>
              <a:ext cx="192600" cy="1191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ustomer Hierarchy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6880" y="2709720"/>
              <a:ext cx="1936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Bill Calcul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76760" y="2685960"/>
              <a:ext cx="19080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Invoice Production &amp; Distribu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2520" y="2803680"/>
              <a:ext cx="19224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rrier Costing &amp; Settl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76400" y="2601720"/>
              <a:ext cx="19188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Usage Ra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3440" y="2406600"/>
              <a:ext cx="659520" cy="800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RP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5800" y="3535200"/>
              <a:ext cx="562320" cy="313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Performance Man.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07800" y="2984400"/>
              <a:ext cx="21816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IC/Car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36760" y="2930400"/>
              <a:ext cx="2458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ield Force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8200" y="3595680"/>
              <a:ext cx="497520" cy="237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rovide Decision Support 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4200" y="2495520"/>
              <a:ext cx="307800" cy="160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lan &amp; Manage Busines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68960" y="2534760"/>
              <a:ext cx="283680" cy="15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lanning &amp; Budge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3520" y="2495880"/>
              <a:ext cx="307800" cy="2350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Fin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57560" y="2504520"/>
              <a:ext cx="2818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ax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61760" y="2983680"/>
              <a:ext cx="307800" cy="180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Human Resour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4000" y="3043080"/>
              <a:ext cx="28512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H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74000" y="3097080"/>
              <a:ext cx="28512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ayrol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3520" y="2742120"/>
              <a:ext cx="307800" cy="297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Accoun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&amp; Control Dat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52160" y="2800440"/>
              <a:ext cx="2818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A/R, A/P, G/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8160" y="2786400"/>
              <a:ext cx="307800" cy="191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Capital Program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68960" y="2825640"/>
              <a:ext cx="2836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ontract Suppo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172600" y="3079800"/>
              <a:ext cx="408240" cy="204120"/>
              <a:chOff x="2172600" y="3079800"/>
              <a:chExt cx="408240" cy="204120"/>
            </a:xfrm>
          </p:grpSpPr>
          <p:sp>
            <p:nvSpPr>
              <p:cNvPr id="230" name=""/>
              <p:cNvSpPr/>
              <p:nvPr/>
            </p:nvSpPr>
            <p:spPr>
              <a:xfrm>
                <a:off x="2172600" y="3079800"/>
                <a:ext cx="408240" cy="20412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28120" y="3079800"/>
                <a:ext cx="936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Service Activation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82320" y="3119760"/>
                <a:ext cx="36360" cy="15732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200000">
                <a:off x="2178720" y="3174840"/>
                <a:ext cx="2808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Local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33800" y="3119760"/>
                <a:ext cx="33840" cy="15732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2224080" y="3179520"/>
                <a:ext cx="158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LD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28840" y="3120480"/>
                <a:ext cx="36000" cy="1558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2312640" y="3178080"/>
                <a:ext cx="464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FR/ATM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78880" y="3120480"/>
                <a:ext cx="34560" cy="1558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2352240" y="3173760"/>
                <a:ext cx="662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IP Dedicated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26760" y="3120480"/>
                <a:ext cx="35640" cy="1558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6200000">
                <a:off x="2412720" y="3178800"/>
                <a:ext cx="356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IP Dial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79320" y="3120480"/>
                <a:ext cx="38160" cy="1558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6200000">
                <a:off x="2439000" y="3178080"/>
                <a:ext cx="8604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Hosted Services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29000" y="3120480"/>
                <a:ext cx="35280" cy="1558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2515320" y="3177000"/>
                <a:ext cx="295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Other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80240" y="3119760"/>
                <a:ext cx="33480" cy="15732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2260080" y="3177360"/>
                <a:ext cx="450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ffffff"/>
                    </a:solidFill>
                    <a:latin typeface="Arial"/>
                  </a:rPr>
                  <a:t>Toll-free</a:t>
                </a:r>
                <a:endParaRPr b="0" lang="en-US" sz="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291680" y="2535480"/>
              <a:ext cx="232560" cy="496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80" bIns="2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ommission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36760" y="2984400"/>
              <a:ext cx="2458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LNP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31800" y="2813400"/>
              <a:ext cx="234000" cy="723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5560" bIns="25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duct Configurato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03800" y="2516040"/>
              <a:ext cx="34200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mpaign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03160" y="3738600"/>
              <a:ext cx="19404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nagement Repor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52160" y="2858760"/>
              <a:ext cx="2818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inancial Repor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8960" y="2892240"/>
              <a:ext cx="2836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pital Project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3160" y="3651480"/>
              <a:ext cx="19404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ustomer Profitabilit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88240" y="3652560"/>
              <a:ext cx="1954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duct Profitabilit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2835360"/>
              <a:ext cx="217800" cy="496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880" bIns="2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ales Collateral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280" y="2597760"/>
              <a:ext cx="219600" cy="74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720" bIns="27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rketing Intellige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1760" y="2673000"/>
              <a:ext cx="302760" cy="105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I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3520" y="3045600"/>
              <a:ext cx="307800" cy="124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 S.S. &amp; Reg. Env.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52160" y="3111480"/>
              <a:ext cx="2818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Doc.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4080" y="3445920"/>
              <a:ext cx="584280" cy="385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Materials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87280" y="3335760"/>
              <a:ext cx="1084320" cy="93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17160" y="3373920"/>
              <a:ext cx="176040" cy="40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4280" y="3308400"/>
              <a:ext cx="2264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Garamond"/>
                </a:rPr>
                <a:t>e-Bill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03080" y="3373920"/>
              <a:ext cx="250560" cy="43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88680" y="3308400"/>
              <a:ext cx="26748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Garamond"/>
                </a:rPr>
                <a:t>e-Procur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65160" y="3376800"/>
              <a:ext cx="175680" cy="34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50040" y="3308400"/>
              <a:ext cx="24336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Garamond"/>
                </a:rPr>
                <a:t>e-Pay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11920" y="3373920"/>
              <a:ext cx="175680" cy="406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16600" y="3302280"/>
              <a:ext cx="2174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Garamond"/>
                </a:rPr>
                <a:t>e-Car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83920" y="3378240"/>
              <a:ext cx="25236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" spc="-1" strike="noStrike">
                  <a:solidFill>
                    <a:srgbClr val="ffffff"/>
                  </a:solidFill>
                  <a:latin typeface="Arial"/>
                </a:rPr>
                <a:t>e-Commer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54160" y="3349800"/>
              <a:ext cx="194760" cy="889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e-Ord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1126800" y="3642840"/>
              <a:ext cx="173160" cy="86400"/>
            </a:xfrm>
            <a:custGeom>
              <a:avLst/>
              <a:gdLst>
                <a:gd name="textAreaLeft" fmla="*/ 37800 w 173160"/>
                <a:gd name="textAreaRight" fmla="*/ 135360 w 173160"/>
                <a:gd name="textAreaTop" fmla="*/ 18720 h 86400"/>
                <a:gd name="textAreaBottom" fmla="*/ 67680 h 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1095480" y="3607560"/>
              <a:ext cx="22500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56400" y="3445920"/>
              <a:ext cx="1314360" cy="4226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86280" y="3460680"/>
              <a:ext cx="1265400" cy="391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Network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03520" y="3510000"/>
              <a:ext cx="234720" cy="313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rocure Materials and Servi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02120" y="3519000"/>
              <a:ext cx="491760" cy="323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lan, Design and Build the Network and Faciliti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90760" y="3709080"/>
              <a:ext cx="43920" cy="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26600" y="3759480"/>
              <a:ext cx="23472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Engineer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51920" y="3510000"/>
              <a:ext cx="300240" cy="313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Logistic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920" y="3622680"/>
              <a:ext cx="26460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Logistic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12960" y="3520080"/>
              <a:ext cx="720720" cy="3225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Manage Network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64600" y="3581640"/>
              <a:ext cx="23220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ault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2280" y="3578040"/>
              <a:ext cx="20304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Configur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64960" y="3655800"/>
              <a:ext cx="2314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Surveill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28400" y="3597120"/>
              <a:ext cx="233640" cy="154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raffic Analysi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65840" y="3637440"/>
              <a:ext cx="35280" cy="105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1352520" y="3665880"/>
              <a:ext cx="35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1560" y="3637440"/>
              <a:ext cx="30600" cy="105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1384560" y="3669480"/>
              <a:ext cx="511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51880" y="3637440"/>
              <a:ext cx="30600" cy="105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1441800" y="3662280"/>
              <a:ext cx="252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94360" y="3637440"/>
              <a:ext cx="36000" cy="105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1488960" y="3666960"/>
              <a:ext cx="21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S7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69920" y="3586320"/>
              <a:ext cx="26460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Asset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71720" y="3744720"/>
              <a:ext cx="26280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lant Mainten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30880" y="3716640"/>
              <a:ext cx="19224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cur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1720" y="3677040"/>
              <a:ext cx="26280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ulfill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2920" y="3660840"/>
              <a:ext cx="180360" cy="1393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Capacity Plann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64600" y="3737160"/>
              <a:ext cx="23220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Element Manag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11200" y="3649680"/>
              <a:ext cx="20664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Inventor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81120" y="3727800"/>
              <a:ext cx="18432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GI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82680" y="3020400"/>
              <a:ext cx="781560" cy="292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ustomer Relationship Mngmt.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8520" y="3081960"/>
              <a:ext cx="754200" cy="219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91480" y="3011400"/>
              <a:ext cx="25848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Care Servic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4000" y="3121200"/>
              <a:ext cx="265320" cy="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00320" y="3062160"/>
              <a:ext cx="2750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ustomer Servi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17600" y="3183480"/>
              <a:ext cx="265320" cy="88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97080" y="3208320"/>
              <a:ext cx="28296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ustomer Contract 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32240" y="3121200"/>
              <a:ext cx="257400" cy="78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59960" y="3149640"/>
              <a:ext cx="24768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ll Cent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1720" y="2597400"/>
              <a:ext cx="234720" cy="75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0440" y="2622240"/>
              <a:ext cx="23112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Repor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24680" y="3219480"/>
              <a:ext cx="344880" cy="5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4840" y="3154320"/>
              <a:ext cx="2858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ustomer Repor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79480" y="2816280"/>
              <a:ext cx="23184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creen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93840" y="2887560"/>
              <a:ext cx="21816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Ord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ptur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72760" y="2579760"/>
              <a:ext cx="20988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Ord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re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41680" y="2968200"/>
              <a:ext cx="452880" cy="3445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Service Assur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89320" y="3740400"/>
              <a:ext cx="193320" cy="78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1680" y="3760920"/>
              <a:ext cx="26316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Vendor/Suppli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19480" y="3733920"/>
              <a:ext cx="197280" cy="1191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apacity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gm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36360" y="3581640"/>
              <a:ext cx="219600" cy="124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Network 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rovision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6080" y="3026160"/>
              <a:ext cx="428400" cy="278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44200" y="2967120"/>
              <a:ext cx="32400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" spc="-1" strike="noStrike">
                  <a:solidFill>
                    <a:srgbClr val="ffffff"/>
                  </a:solidFill>
                  <a:latin typeface="Arial"/>
                </a:rPr>
                <a:t>Perform Service Assuran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72280" y="3084480"/>
              <a:ext cx="20592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rouble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2280" y="3181320"/>
              <a:ext cx="19404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QoS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86480" y="3085560"/>
              <a:ext cx="189000" cy="164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Tes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2984760" y="3159360"/>
              <a:ext cx="109440" cy="4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6200000">
              <a:off x="2926080" y="3159720"/>
              <a:ext cx="109440" cy="43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2872080" y="3160080"/>
              <a:ext cx="109440" cy="44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2712960"/>
              <a:ext cx="283680" cy="70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IS Manage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57560" y="2908440"/>
              <a:ext cx="2818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Payment Process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57560" y="2963520"/>
              <a:ext cx="281880" cy="88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Invoice Verific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57560" y="2566800"/>
              <a:ext cx="2818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Collection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57560" y="2628720"/>
              <a:ext cx="281880" cy="109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raud Detec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70400" y="2611080"/>
              <a:ext cx="283680" cy="15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Forecas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7280" y="3236040"/>
              <a:ext cx="360000" cy="176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87320" y="3289680"/>
              <a:ext cx="23724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Mediation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960" y="3314520"/>
              <a:ext cx="299520" cy="68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84520" y="2914560"/>
              <a:ext cx="226800" cy="1040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Reporting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43200" y="3432240"/>
              <a:ext cx="20376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Bu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11480" y="2480760"/>
              <a:ext cx="35280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Manage Products and Services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1117800" y="2866320"/>
              <a:ext cx="189000" cy="86400"/>
            </a:xfrm>
            <a:custGeom>
              <a:avLst/>
              <a:gdLst>
                <a:gd name="textAreaLeft" fmla="*/ 41400 w 189000"/>
                <a:gd name="textAreaRight" fmla="*/ 147600 w 189000"/>
                <a:gd name="textAreaTop" fmla="*/ 18720 h 86400"/>
                <a:gd name="textAreaBottom" fmla="*/ 67680 h 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1087200" y="2827080"/>
              <a:ext cx="25236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Media &amp;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1117800" y="3019320"/>
              <a:ext cx="189000" cy="86400"/>
            </a:xfrm>
            <a:custGeom>
              <a:avLst/>
              <a:gdLst>
                <a:gd name="textAreaLeft" fmla="*/ 41400 w 189000"/>
                <a:gd name="textAreaRight" fmla="*/ 147600 w 189000"/>
                <a:gd name="textAreaTop" fmla="*/ 18720 h 86400"/>
                <a:gd name="textAreaBottom" fmla="*/ 67680 h 8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1085760" y="3002760"/>
              <a:ext cx="24480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Arial"/>
                </a:rPr>
                <a:t>Government</a:t>
              </a:r>
              <a:endParaRPr b="0" lang="en-US" sz="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50" name=""/>
          <p:cNvGraphicFramePr/>
          <p:nvPr/>
        </p:nvGraphicFramePr>
        <p:xfrm>
          <a:off x="4170240" y="1650960"/>
          <a:ext cx="2311560" cy="139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0240" y="1650960"/>
                    <a:ext cx="23115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2" name=""/>
          <p:cNvGrpSpPr/>
          <p:nvPr/>
        </p:nvGrpSpPr>
        <p:grpSpPr>
          <a:xfrm>
            <a:off x="6561000" y="2130480"/>
            <a:ext cx="2641680" cy="1670760"/>
            <a:chOff x="6561000" y="2130480"/>
            <a:chExt cx="2641680" cy="1670760"/>
          </a:xfrm>
        </p:grpSpPr>
        <p:sp>
          <p:nvSpPr>
            <p:cNvPr id="353" name=""/>
            <p:cNvSpPr/>
            <p:nvPr/>
          </p:nvSpPr>
          <p:spPr>
            <a:xfrm>
              <a:off x="6561000" y="2130480"/>
              <a:ext cx="23162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ffffff"/>
                  </a:solidFill>
                  <a:uFillTx/>
                  <a:latin typeface="Arial"/>
                </a:rPr>
                <a:t>Future Stat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595200" y="2197080"/>
              <a:ext cx="2601720" cy="1604160"/>
              <a:chOff x="6595200" y="2197080"/>
              <a:chExt cx="2601720" cy="1604160"/>
            </a:xfrm>
          </p:grpSpPr>
          <p:sp>
            <p:nvSpPr>
              <p:cNvPr id="355" name=""/>
              <p:cNvSpPr/>
              <p:nvPr/>
            </p:nvSpPr>
            <p:spPr>
              <a:xfrm>
                <a:off x="6595200" y="241308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Funne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95200" y="252720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Confi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95200" y="264456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Orde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95200" y="2757240"/>
                <a:ext cx="43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O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Workflow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595200" y="293508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Desig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200" y="313812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Inventory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595200" y="331920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Activate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595200" y="354168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Fault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95200" y="364644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T-ticket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95200" y="3432240"/>
                <a:ext cx="43992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Times New Roman"/>
                  </a:rPr>
                  <a:t>Billing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 rot="5400000">
                <a:off x="8472240" y="3001680"/>
                <a:ext cx="1312200" cy="13680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ustomer Care 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5400000">
                <a:off x="8817840" y="3512880"/>
                <a:ext cx="293040" cy="13608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uCommand 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578080" y="2775600"/>
                <a:ext cx="281520" cy="10116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OT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22880" y="2768040"/>
                <a:ext cx="273600" cy="51552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TB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29960" y="2928240"/>
                <a:ext cx="290880" cy="10476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SONET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NAVI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946200" y="2782800"/>
                <a:ext cx="259560" cy="10440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TORNADO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46200" y="3085200"/>
                <a:ext cx="259560" cy="192960"/>
              </a:xfrm>
              <a:prstGeom prst="cube">
                <a:avLst>
                  <a:gd name="adj" fmla="val 8805"/>
                </a:avLst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22 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DATA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BASE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229960" y="2775600"/>
                <a:ext cx="290880" cy="10440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MPROV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78080" y="2928240"/>
                <a:ext cx="281520" cy="9936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46200" y="2938320"/>
                <a:ext cx="259560" cy="9576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46200" y="2417760"/>
                <a:ext cx="259560" cy="8748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Siebe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29960" y="2413080"/>
                <a:ext cx="295920" cy="8496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larify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946200" y="2648520"/>
                <a:ext cx="259560" cy="7776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229960" y="2638440"/>
                <a:ext cx="295920" cy="8028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erli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46200" y="2534040"/>
                <a:ext cx="259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229960" y="2525040"/>
                <a:ext cx="295920" cy="8460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GS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46200" y="3327840"/>
                <a:ext cx="259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34640" y="3327840"/>
                <a:ext cx="29124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46200" y="3546000"/>
                <a:ext cx="259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Netcoo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34640" y="3541320"/>
                <a:ext cx="624960" cy="8784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Netcoo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02000" y="3538800"/>
                <a:ext cx="294480" cy="8784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Netcoo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46200" y="3650760"/>
                <a:ext cx="259560" cy="8784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larify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234640" y="3646080"/>
                <a:ext cx="6249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larify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02000" y="3643560"/>
                <a:ext cx="294480" cy="8784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TB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46200" y="2285640"/>
                <a:ext cx="259560" cy="73440"/>
              </a:xfrm>
              <a:prstGeom prst="cube">
                <a:avLst>
                  <a:gd name="adj" fmla="val 18953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UK 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229960" y="2288160"/>
                <a:ext cx="29592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BSD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63680" y="2288160"/>
                <a:ext cx="30132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CAR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02000" y="2288160"/>
                <a:ext cx="29448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XNET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48600" y="2782800"/>
                <a:ext cx="292680" cy="10656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ACTIVIEW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62280" y="3085200"/>
                <a:ext cx="268200" cy="195840"/>
              </a:xfrm>
              <a:prstGeom prst="cube">
                <a:avLst>
                  <a:gd name="adj" fmla="val 10416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PR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to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XPERCO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56880" y="2935440"/>
                <a:ext cx="277560" cy="986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56880" y="2647800"/>
                <a:ext cx="277560" cy="78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56880" y="25340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56880" y="33278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256880" y="354600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56880" y="365076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38880" y="2288160"/>
                <a:ext cx="29556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PEC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6880" y="241776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234640" y="3051360"/>
                <a:ext cx="624960" cy="23580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FMS, DA/I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NAVI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OBJECTE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REMEDY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918920" y="2638440"/>
                <a:ext cx="277560" cy="78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918920" y="25250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18920" y="2413080"/>
                <a:ext cx="277560" cy="8352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04160" y="2197080"/>
                <a:ext cx="96084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GCN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16040" y="3327840"/>
                <a:ext cx="28044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81600" y="2775600"/>
                <a:ext cx="292680" cy="10656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ACTIVIEW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95280" y="3078000"/>
                <a:ext cx="268200" cy="195840"/>
              </a:xfrm>
              <a:prstGeom prst="cube">
                <a:avLst>
                  <a:gd name="adj" fmla="val 10416"/>
                </a:avLst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PR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to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Garamond"/>
                  </a:rPr>
                  <a:t>XPERCOM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90240" y="2928240"/>
                <a:ext cx="277560" cy="986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90240" y="2640240"/>
                <a:ext cx="277560" cy="78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90240" y="25268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90240" y="33278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90240" y="353880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90240" y="364356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2663a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INMS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72240" y="2288160"/>
                <a:ext cx="295560" cy="70920"/>
              </a:xfrm>
              <a:prstGeom prst="cube">
                <a:avLst>
                  <a:gd name="adj" fmla="val 13472"/>
                </a:avLst>
              </a:prstGeom>
              <a:solidFill>
                <a:srgbClr val="ffff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SUBSEA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90240" y="2413080"/>
                <a:ext cx="277560" cy="8532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9160" y="3330000"/>
                <a:ext cx="28044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81680" y="2638440"/>
                <a:ext cx="277560" cy="78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81680" y="2525040"/>
                <a:ext cx="277560" cy="8784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81680" y="2413080"/>
                <a:ext cx="277560" cy="83520"/>
              </a:xfrm>
              <a:prstGeom prst="cube">
                <a:avLst>
                  <a:gd name="adj" fmla="val 13472"/>
                </a:avLst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MANUAL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42240" y="3432240"/>
                <a:ext cx="1917000" cy="87840"/>
              </a:xfrm>
              <a:prstGeom prst="cube">
                <a:avLst>
                  <a:gd name="adj" fmla="val 13472"/>
                </a:avLst>
              </a:prstGeom>
              <a:solidFill>
                <a:srgbClr val="ffc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Comic Sans MS"/>
                  </a:rPr>
                  <a:t>30+ Systems moving to Kenan</a:t>
                </a:r>
                <a:endParaRPr b="0" lang="en-US" sz="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908040" y="2407320"/>
              <a:ext cx="1951920" cy="352080"/>
            </a:xfrm>
            <a:prstGeom prst="cube">
              <a:avLst>
                <a:gd name="adj" fmla="val 13472"/>
              </a:avLst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Comic Sans MS"/>
                </a:rPr>
                <a:t>CLARIF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5840" y="3643920"/>
              <a:ext cx="1915920" cy="95040"/>
            </a:xfrm>
            <a:prstGeom prst="cube">
              <a:avLst>
                <a:gd name="adj" fmla="val 13472"/>
              </a:avLst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Comic Sans MS"/>
                </a:rPr>
                <a:t>CLARIF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5400000">
              <a:off x="8472960" y="2996640"/>
              <a:ext cx="1315800" cy="143640"/>
            </a:xfrm>
            <a:prstGeom prst="cube">
              <a:avLst>
                <a:gd name="adj" fmla="val 13472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Comic Sans MS"/>
                </a:rPr>
                <a:t>Customer Care (CLARIFY 60%) 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4840" y="3795840"/>
            <a:ext cx="3130560" cy="2542680"/>
            <a:chOff x="3714840" y="3795840"/>
            <a:chExt cx="3130560" cy="2542680"/>
          </a:xfrm>
        </p:grpSpPr>
        <p:sp>
          <p:nvSpPr>
            <p:cNvPr id="428" name=""/>
            <p:cNvSpPr/>
            <p:nvPr/>
          </p:nvSpPr>
          <p:spPr>
            <a:xfrm>
              <a:off x="3770640" y="4201920"/>
              <a:ext cx="2848680" cy="2136600"/>
            </a:xfrm>
            <a:prstGeom prst="flowChartAlternateProcess">
              <a:avLst/>
            </a:prstGeom>
            <a:solidFill>
              <a:srgbClr val="cad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68120" y="4814640"/>
              <a:ext cx="2845080" cy="7376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781080" y="4449960"/>
              <a:ext cx="127800" cy="1625760"/>
              <a:chOff x="3781080" y="4449960"/>
              <a:chExt cx="127800" cy="1625760"/>
            </a:xfrm>
          </p:grpSpPr>
          <p:sp>
            <p:nvSpPr>
              <p:cNvPr id="431" name=""/>
              <p:cNvSpPr/>
              <p:nvPr/>
            </p:nvSpPr>
            <p:spPr>
              <a:xfrm rot="16200000">
                <a:off x="3696840" y="4537440"/>
                <a:ext cx="29952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Customer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200000">
                <a:off x="3697200" y="5225760"/>
                <a:ext cx="29196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6200000">
                <a:off x="3705840" y="5872680"/>
                <a:ext cx="28116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714840" y="3795840"/>
              <a:ext cx="31305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ffffff"/>
                  </a:solidFill>
                  <a:latin typeface="Arial"/>
                </a:rPr>
                <a:t>Conceptual Architecture - Datalink Direc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3160" y="4649400"/>
              <a:ext cx="510120" cy="4503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22640" y="4630320"/>
              <a:ext cx="4208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Siebel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51800" y="4767120"/>
              <a:ext cx="557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Product &amp; Service catalo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Order Captur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Customer Servic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Order Crea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3680" y="4687200"/>
              <a:ext cx="502920" cy="4438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03680" y="4667400"/>
              <a:ext cx="4471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Oracle Financial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29240" y="4788000"/>
              <a:ext cx="4507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A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AP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GL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Financial Reportin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Revenue Assuranc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5240" y="5349960"/>
              <a:ext cx="363240" cy="32076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79920" y="5327640"/>
              <a:ext cx="4507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Tornado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65600" y="5443560"/>
              <a:ext cx="3650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Service Order Management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6840" y="4663080"/>
              <a:ext cx="502920" cy="4438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6480" y="4640040"/>
              <a:ext cx="42084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Arbor BP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05640" y="4788000"/>
              <a:ext cx="4744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Customer Hierarchy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Bill Calcula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Taxa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Payment Processin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Revenue Assuranc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520" y="4693680"/>
              <a:ext cx="363240" cy="32040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5320" y="4673160"/>
              <a:ext cx="4435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London Bridg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31240" y="4767120"/>
              <a:ext cx="4471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Collec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53280" y="475596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12600" y="4605480"/>
              <a:ext cx="30096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New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ustome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54360" y="5068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7800" y="5043600"/>
              <a:ext cx="25236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New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rde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38360" y="4611960"/>
              <a:ext cx="3009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ustome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81200" y="481860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36920" y="4717080"/>
              <a:ext cx="2797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AR Feed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06960" y="481860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9120" y="4710600"/>
              <a:ext cx="2127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GL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>
              <a:stCxn id="435" idx="2"/>
              <a:endCxn id="443" idx="1"/>
            </p:cNvCxnSpPr>
            <p:nvPr/>
          </p:nvCxnSpPr>
          <p:spPr>
            <a:xfrm flipH="1" rot="16200000">
              <a:off x="4274640" y="5122440"/>
              <a:ext cx="413280" cy="367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0" name=""/>
            <p:cNvSpPr/>
            <p:nvPr/>
          </p:nvSpPr>
          <p:spPr>
            <a:xfrm>
              <a:off x="4253760" y="5370480"/>
              <a:ext cx="25236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New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rde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80120" y="50374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35840" y="4902480"/>
              <a:ext cx="30276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Bank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Payment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53280" y="49748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06840" y="4827600"/>
              <a:ext cx="3286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Product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Informa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42120" y="450612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48800" y="4390920"/>
              <a:ext cx="378720" cy="12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ash Collectio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06960" y="49748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78160" y="4840560"/>
              <a:ext cx="31176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ash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ollectio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06160" y="4264560"/>
              <a:ext cx="390960" cy="155880"/>
            </a:xfrm>
            <a:prstGeom prst="roundRect">
              <a:avLst>
                <a:gd name="adj" fmla="val 4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ustome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Sales Catalog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rder Genera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301640" y="4420440"/>
              <a:ext cx="0" cy="218520"/>
            </a:xfrm>
            <a:prstGeom prst="line">
              <a:avLst/>
            </a:prstGeom>
            <a:ln w="9360">
              <a:solidFill>
                <a:srgbClr val="ffcc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18040" y="4432680"/>
              <a:ext cx="2494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w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33000" y="4264560"/>
              <a:ext cx="419040" cy="155880"/>
            </a:xfrm>
            <a:prstGeom prst="roundRect">
              <a:avLst>
                <a:gd name="adj" fmla="val 4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ustomer Hierarchy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Products &amp; Rate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Invoice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5028480" y="4420440"/>
              <a:ext cx="0" cy="218520"/>
            </a:xfrm>
            <a:prstGeom prst="line">
              <a:avLst/>
            </a:prstGeom>
            <a:ln w="9360">
              <a:solidFill>
                <a:srgbClr val="ffcc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46680" y="4432680"/>
              <a:ext cx="2494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w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59480" y="4295880"/>
              <a:ext cx="391320" cy="155880"/>
            </a:xfrm>
            <a:prstGeom prst="roundRect">
              <a:avLst>
                <a:gd name="adj" fmla="val 4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AR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ustomer Account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755320" y="4451760"/>
              <a:ext cx="0" cy="218520"/>
            </a:xfrm>
            <a:prstGeom prst="line">
              <a:avLst/>
            </a:prstGeom>
            <a:ln w="9360">
              <a:solidFill>
                <a:srgbClr val="ffcc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3880" y="4432680"/>
              <a:ext cx="2494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w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7160" y="5920920"/>
              <a:ext cx="391320" cy="156240"/>
            </a:xfrm>
            <a:prstGeom prst="roundRect">
              <a:avLst>
                <a:gd name="adj" fmla="val 4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Workflow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833000" y="5670720"/>
              <a:ext cx="0" cy="218520"/>
            </a:xfrm>
            <a:prstGeom prst="line">
              <a:avLst/>
            </a:prstGeom>
            <a:ln w="9360">
              <a:solidFill>
                <a:srgbClr val="ffcc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0400" y="5748840"/>
              <a:ext cx="2494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wns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469040" y="5108400"/>
              <a:ext cx="22356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02440" y="5211720"/>
              <a:ext cx="29808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Order 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Complete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80120" y="47332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15640" y="5851800"/>
              <a:ext cx="782280" cy="44388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17440" y="5850000"/>
              <a:ext cx="75348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Arial"/>
                </a:rPr>
                <a:t>Need system of record for: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3000" y="5995800"/>
              <a:ext cx="66888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Product Reportin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Commissionin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Customer Reporting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Arial"/>
                </a:rPr>
                <a:t>Invoice Production &amp;Distribution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40440" y="51084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52600" y="5278680"/>
              <a:ext cx="322560" cy="124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Direct Debit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52040" y="51084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23720" y="5120280"/>
              <a:ext cx="2811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Request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55920" y="5118480"/>
              <a:ext cx="3045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ffffff"/>
                  </a:solidFill>
                  <a:latin typeface="Tahoma"/>
                </a:rPr>
                <a:t>Feed</a:t>
              </a: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H="1" flipV="1">
            <a:off x="3136680" y="3776400"/>
            <a:ext cx="495000" cy="533160"/>
          </a:xfrm>
          <a:prstGeom prst="line">
            <a:avLst/>
          </a:prstGeom>
          <a:ln w="12600">
            <a:solidFill>
              <a:srgbClr val="ffcc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639000" y="1473120"/>
            <a:ext cx="8276040" cy="4622400"/>
            <a:chOff x="639000" y="1473120"/>
            <a:chExt cx="8276040" cy="4622400"/>
          </a:xfrm>
        </p:grpSpPr>
        <p:sp>
          <p:nvSpPr>
            <p:cNvPr id="494" name=""/>
            <p:cNvSpPr/>
            <p:nvPr/>
          </p:nvSpPr>
          <p:spPr>
            <a:xfrm>
              <a:off x="1152360" y="4406040"/>
              <a:ext cx="6502680" cy="320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524160" y="1984680"/>
              <a:ext cx="598680" cy="272160"/>
            </a:xfrm>
            <a:custGeom>
              <a:avLst/>
              <a:gdLst>
                <a:gd name="textAreaLeft" fmla="*/ 131400 w 598680"/>
                <a:gd name="textAreaRight" fmla="*/ 467280 w 59868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6200000">
              <a:off x="565920" y="2005560"/>
              <a:ext cx="532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524520" y="2468880"/>
              <a:ext cx="597600" cy="272160"/>
            </a:xfrm>
            <a:custGeom>
              <a:avLst/>
              <a:gdLst>
                <a:gd name="textAreaLeft" fmla="*/ 131400 w 597600"/>
                <a:gd name="textAreaRight" fmla="*/ 466200 w 59760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536400" y="2486880"/>
              <a:ext cx="59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Wholesal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51120" y="1474200"/>
              <a:ext cx="5819760" cy="2895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92360" y="1530000"/>
              <a:ext cx="1408320" cy="16894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17920" y="1530000"/>
              <a:ext cx="1724400" cy="279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rvice Delive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96120" y="1530000"/>
              <a:ext cx="2484720" cy="183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81640" y="2486160"/>
              <a:ext cx="1595880" cy="17996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erform Service Provisioning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09800" y="1721520"/>
              <a:ext cx="2368800" cy="620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Manage Products and Servi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31400" y="2369160"/>
              <a:ext cx="2376360" cy="992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Market and Sell Products &amp; Servi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84520" y="1794600"/>
              <a:ext cx="1595880" cy="664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erform Order 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11880" y="2076120"/>
              <a:ext cx="735120" cy="2372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arketing Decision Suppor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2000" y="2536200"/>
              <a:ext cx="730440" cy="2372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Products &amp; Services Catalo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11880" y="3032280"/>
              <a:ext cx="735120" cy="2372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ales Force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071720" y="2544840"/>
              <a:ext cx="682200" cy="2343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Opportunity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11880" y="2544840"/>
              <a:ext cx="735120" cy="1569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olution Advis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40160" y="2649240"/>
              <a:ext cx="76140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nterface Gatewa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40160" y="2849400"/>
              <a:ext cx="76140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aster Street Address Guid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15920" y="2037240"/>
              <a:ext cx="67500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Service Order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21600" y="2859480"/>
              <a:ext cx="67680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P Address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21600" y="3128040"/>
              <a:ext cx="67680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elephone Number Admi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2680" y="1795680"/>
              <a:ext cx="1345320" cy="1341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Bill for Products and Servi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30720" y="2093040"/>
              <a:ext cx="137520" cy="1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30720" y="2733480"/>
              <a:ext cx="13752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30720" y="3093840"/>
              <a:ext cx="127080" cy="1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77320" y="2756520"/>
              <a:ext cx="60372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Revenue Assur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1920" y="4289040"/>
              <a:ext cx="91296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ollectio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1200" y="2093040"/>
              <a:ext cx="60552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Customer Hierarchy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71200" y="2440440"/>
              <a:ext cx="60552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Bill Calcul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30720" y="2354760"/>
              <a:ext cx="60516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Invoice Production &amp; Distribu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43320" y="2727720"/>
              <a:ext cx="60372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rrier Costing &amp; Settl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30720" y="2090520"/>
              <a:ext cx="60516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Usage Ra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32800" y="1473120"/>
              <a:ext cx="2068560" cy="25297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R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60320" y="5040720"/>
              <a:ext cx="1763280" cy="9903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rformance Man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20160" y="3408120"/>
              <a:ext cx="67824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IC/Ca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40160" y="3126960"/>
              <a:ext cx="76140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ield Force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62920" y="5232240"/>
              <a:ext cx="1558800" cy="753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rovide Decision Support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9360" y="1754280"/>
              <a:ext cx="965880" cy="510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Plan &amp; Manage Busines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79320" y="1879920"/>
              <a:ext cx="890280" cy="21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lanning &amp; Budge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65560" y="1756080"/>
              <a:ext cx="964440" cy="743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Fin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905880" y="1891800"/>
              <a:ext cx="88848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Tax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63840" y="3298320"/>
              <a:ext cx="964440" cy="568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Manage Human Resourc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04520" y="352404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H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04520" y="369576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ayrol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65560" y="2533680"/>
              <a:ext cx="964440" cy="9403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Manage Accoun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&amp; Control Dat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95080" y="274932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A/R, A/P, G/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51600" y="2673720"/>
              <a:ext cx="966240" cy="604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Manage Capital Program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82560" y="2833920"/>
              <a:ext cx="88704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ontract Suppor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821400" y="3602520"/>
              <a:ext cx="1280160" cy="644400"/>
              <a:chOff x="3821400" y="3602520"/>
              <a:chExt cx="1280160" cy="644400"/>
            </a:xfrm>
          </p:grpSpPr>
          <p:sp>
            <p:nvSpPr>
              <p:cNvPr id="545" name=""/>
              <p:cNvSpPr/>
              <p:nvPr/>
            </p:nvSpPr>
            <p:spPr>
              <a:xfrm>
                <a:off x="3821400" y="3602520"/>
                <a:ext cx="1280160" cy="64440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145400" y="3614400"/>
                <a:ext cx="6073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ice Activation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852720" y="3727440"/>
                <a:ext cx="114480" cy="49680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6200000">
                <a:off x="3821040" y="3918600"/>
                <a:ext cx="183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13280" y="3727440"/>
                <a:ext cx="106200" cy="49680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6200000">
                <a:off x="3994560" y="3917520"/>
                <a:ext cx="982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11360" y="3729960"/>
                <a:ext cx="113400" cy="4924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200000">
                <a:off x="4224240" y="3915360"/>
                <a:ext cx="285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FR/ATM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67960" y="3729960"/>
                <a:ext cx="108720" cy="4924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6200000">
                <a:off x="4298760" y="3915720"/>
                <a:ext cx="438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P Dedicated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618440" y="3729960"/>
                <a:ext cx="111600" cy="4924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6200000">
                <a:off x="4555800" y="3917160"/>
                <a:ext cx="2246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P Dial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3320" y="3729960"/>
                <a:ext cx="120600" cy="4924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4545000" y="3917880"/>
                <a:ext cx="5569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Hosted Services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938120" y="3729960"/>
                <a:ext cx="111240" cy="49248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6200000">
                <a:off x="4889160" y="3918240"/>
                <a:ext cx="19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Other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59800" y="3727440"/>
                <a:ext cx="105840" cy="496800"/>
              </a:xfrm>
              <a:prstGeom prst="rect">
                <a:avLst/>
              </a:prstGeom>
              <a:solidFill>
                <a:srgbClr val="000066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200000">
                <a:off x="4064400" y="3914640"/>
                <a:ext cx="28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oll-free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059120" y="1879920"/>
              <a:ext cx="729000" cy="1587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Commission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0160" y="3408120"/>
              <a:ext cx="76140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NP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11880" y="2759040"/>
              <a:ext cx="735120" cy="2286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duct Configurat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3280" y="1878840"/>
              <a:ext cx="107604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mpaign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92360" y="5681160"/>
              <a:ext cx="60372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anagement Repor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95080" y="291384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Financial Repor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82560" y="3015360"/>
              <a:ext cx="887040" cy="268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pital Project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92360" y="5405400"/>
              <a:ext cx="60372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ustomer Profitabilit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9160" y="5415480"/>
              <a:ext cx="60516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duct Profitabilit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71720" y="2829240"/>
              <a:ext cx="682200" cy="1573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ales Collateral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71720" y="2077560"/>
              <a:ext cx="688680" cy="2358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arketing Intellige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3840" y="2314800"/>
              <a:ext cx="948960" cy="334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Manage 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65560" y="3492720"/>
              <a:ext cx="964440" cy="3942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Arial"/>
                </a:rPr>
                <a:t>Man S.S. &amp; Reg. Env.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95080" y="370404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Doc.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11280" y="4759200"/>
              <a:ext cx="1831320" cy="12204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terials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553560" y="4410360"/>
              <a:ext cx="3399840" cy="295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47880" y="4530240"/>
              <a:ext cx="552960" cy="129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95680" y="4504680"/>
              <a:ext cx="68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e-Bill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7120" y="4530240"/>
              <a:ext cx="786600" cy="1386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50200" y="4511880"/>
              <a:ext cx="107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e-Procurem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79360" y="4540320"/>
              <a:ext cx="551160" cy="11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90800" y="450468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e-Paym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8080" y="4530240"/>
              <a:ext cx="551160" cy="129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47280" y="449064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e-Car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78760" y="437040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-Commer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72280" y="4506120"/>
              <a:ext cx="603720" cy="1803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e-Ord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5400000">
              <a:off x="541080" y="5380920"/>
              <a:ext cx="547200" cy="272160"/>
            </a:xfrm>
            <a:custGeom>
              <a:avLst/>
              <a:gdLst>
                <a:gd name="textAreaLeft" fmla="*/ 120240 w 547200"/>
                <a:gd name="textAreaRight" fmla="*/ 426960 w 54720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6200000">
              <a:off x="558720" y="5346720"/>
              <a:ext cx="50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49320" y="4759200"/>
              <a:ext cx="4121640" cy="1336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42200" y="4804920"/>
              <a:ext cx="3967920" cy="12376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twork Manag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71760" y="4960440"/>
              <a:ext cx="736920" cy="992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rocure Materials and Servi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91880" y="4989240"/>
              <a:ext cx="1541880" cy="1023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lan, Design and Build the Network and Faciliti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83360" y="5591160"/>
              <a:ext cx="1375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75400" y="5754240"/>
              <a:ext cx="732240" cy="268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Engineer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50440" y="4960440"/>
              <a:ext cx="942480" cy="992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Manage Logisti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05880" y="5412240"/>
              <a:ext cx="83124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ogisti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94240" y="4993560"/>
              <a:ext cx="2259000" cy="10188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Manage Network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84080" y="5190840"/>
              <a:ext cx="725760" cy="26820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ault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264560" y="5185080"/>
              <a:ext cx="63288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Configu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84080" y="5420880"/>
              <a:ext cx="72576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Surveill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75400" y="5236560"/>
              <a:ext cx="732240" cy="487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raffic Analys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3120" y="5363640"/>
              <a:ext cx="111600" cy="33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1220400" y="5455440"/>
              <a:ext cx="26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35680" y="5363640"/>
              <a:ext cx="95760" cy="33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6200000">
              <a:off x="1289160" y="5469120"/>
              <a:ext cx="375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60960" y="5363640"/>
              <a:ext cx="97560" cy="33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1521000" y="544644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5600" y="5363640"/>
              <a:ext cx="113040" cy="3344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1674000" y="5450760"/>
              <a:ext cx="16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05880" y="5227920"/>
              <a:ext cx="83124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Asset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09120" y="5766840"/>
              <a:ext cx="82512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lant Mainten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55280" y="5665320"/>
              <a:ext cx="60516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cur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09120" y="5592240"/>
              <a:ext cx="82512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ulfill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71360" y="5435280"/>
              <a:ext cx="568080" cy="413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Capacity Plann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84080" y="5676840"/>
              <a:ext cx="724680" cy="3747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Element Manag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61320" y="5420880"/>
              <a:ext cx="63936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Inventor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69560" y="5752440"/>
              <a:ext cx="57276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31400" y="3413880"/>
              <a:ext cx="2449080" cy="9244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ustomer Relationship Mngm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81080" y="3608640"/>
              <a:ext cx="2365560" cy="693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75080" y="358416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Care Servic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28960" y="3732480"/>
              <a:ext cx="831240" cy="16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8200" y="3749760"/>
              <a:ext cx="992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Customer Servi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41200" y="3928680"/>
              <a:ext cx="831240" cy="27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7760" y="39142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ustomer Contract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27600" y="3732480"/>
              <a:ext cx="808200" cy="24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210400" y="3718440"/>
              <a:ext cx="7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Call Cen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26200" y="2076120"/>
              <a:ext cx="736920" cy="237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86320" y="20617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Produc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04560" y="4042800"/>
              <a:ext cx="1080360" cy="165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50280" y="4038480"/>
              <a:ext cx="109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Customer Reporting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92000" y="2790720"/>
              <a:ext cx="72000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redi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creen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71720" y="3015360"/>
              <a:ext cx="68220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rd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Captur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47080" y="2041920"/>
              <a:ext cx="65916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Ord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Cre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92360" y="3248280"/>
              <a:ext cx="1421280" cy="10904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rvice Assur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22400" y="5689440"/>
              <a:ext cx="606600" cy="248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63720" y="569556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Vendor/Suppli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72120" y="5671080"/>
              <a:ext cx="628200" cy="3934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apacit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gm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70200" y="5192280"/>
              <a:ext cx="68400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Network 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Provision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37000" y="3432600"/>
              <a:ext cx="1343880" cy="878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83720" y="3438360"/>
              <a:ext cx="1579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Arial"/>
                </a:rPr>
                <a:t>Perform Service Assuranc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87040" y="3619800"/>
              <a:ext cx="64692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rouble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88480" y="3921120"/>
              <a:ext cx="603720" cy="30708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QoS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058440" y="3619800"/>
              <a:ext cx="592920" cy="520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Tes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6366240" y="3853440"/>
              <a:ext cx="347400" cy="13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81200" y="3854160"/>
              <a:ext cx="347400" cy="137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Circui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6013440" y="3856320"/>
              <a:ext cx="347400" cy="139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93360" y="2478960"/>
              <a:ext cx="888480" cy="16164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S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99400" y="3079440"/>
              <a:ext cx="900720" cy="1803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Payment Process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99400" y="3256920"/>
              <a:ext cx="900720" cy="18036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Invoice Verific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05880" y="2088720"/>
              <a:ext cx="88848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0000"/>
                  </a:solidFill>
                  <a:latin typeface="Arial"/>
                </a:rPr>
                <a:t>Collectio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05880" y="2286360"/>
              <a:ext cx="888480" cy="2005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raud Detec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91920" y="2118960"/>
              <a:ext cx="889920" cy="10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Forecas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786800" y="4094280"/>
              <a:ext cx="1128240" cy="55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28640" y="40914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di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57720" y="4343040"/>
              <a:ext cx="938160" cy="2174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Tahoma"/>
                </a:rPr>
                <a:t>CDR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01360" y="3082320"/>
              <a:ext cx="712080" cy="286920"/>
            </a:xfrm>
            <a:prstGeom prst="rect">
              <a:avLst/>
            </a:prstGeom>
            <a:solidFill>
              <a:srgbClr val="0000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91440" y="44218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99800" y="1534320"/>
              <a:ext cx="244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nage Products and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5400000">
              <a:off x="512640" y="2927520"/>
              <a:ext cx="597240" cy="272160"/>
            </a:xfrm>
            <a:custGeom>
              <a:avLst/>
              <a:gdLst>
                <a:gd name="textAreaLeft" fmla="*/ 131400 w 597240"/>
                <a:gd name="textAreaRight" fmla="*/ 465840 w 59724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456120" y="2863800"/>
              <a:ext cx="7279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Media &amp;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5400000">
              <a:off x="512640" y="3410640"/>
              <a:ext cx="597240" cy="272160"/>
            </a:xfrm>
            <a:custGeom>
              <a:avLst/>
              <a:gdLst>
                <a:gd name="textAreaLeft" fmla="*/ 131400 w 597240"/>
                <a:gd name="textAreaRight" fmla="*/ 465840 w 597240"/>
                <a:gd name="textAreaTop" fmla="*/ 59760 h 272160"/>
                <a:gd name="textAreaBottom" fmla="*/ 212400 h 2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487440" y="3464640"/>
              <a:ext cx="663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Govern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2680" y="106200"/>
            <a:ext cx="8420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e have also mapped the conceptual application “touch points” to Bill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858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th these inputs, Deloitte Consulting built a number of architectural view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8080" y="1454040"/>
            <a:ext cx="1773000" cy="129384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s Is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951480" y="2586240"/>
            <a:ext cx="1245960" cy="1545120"/>
            <a:chOff x="951480" y="2586240"/>
            <a:chExt cx="1245960" cy="1545120"/>
          </a:xfrm>
        </p:grpSpPr>
        <p:sp>
          <p:nvSpPr>
            <p:cNvPr id="669" name=""/>
            <p:cNvSpPr/>
            <p:nvPr/>
          </p:nvSpPr>
          <p:spPr>
            <a:xfrm rot="4666200">
              <a:off x="1635120" y="3171240"/>
              <a:ext cx="295560" cy="147960"/>
            </a:xfrm>
            <a:custGeom>
              <a:avLst/>
              <a:gdLst/>
              <a:ahLst/>
              <a:rect l="l" t="t" r="r" b="b"/>
              <a:pathLst>
                <a:path w="443" h="171">
                  <a:moveTo>
                    <a:pt x="0" y="101"/>
                  </a:moveTo>
                  <a:lnTo>
                    <a:pt x="0" y="0"/>
                  </a:lnTo>
                  <a:lnTo>
                    <a:pt x="443" y="78"/>
                  </a:lnTo>
                  <a:lnTo>
                    <a:pt x="436" y="124"/>
                  </a:lnTo>
                  <a:lnTo>
                    <a:pt x="406" y="17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4666200">
              <a:off x="1655640" y="3793320"/>
              <a:ext cx="284760" cy="14256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427" y="165"/>
                  </a:moveTo>
                  <a:lnTo>
                    <a:pt x="426" y="72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427" y="16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4666200">
              <a:off x="843840" y="2925360"/>
              <a:ext cx="1369800" cy="885240"/>
            </a:xfrm>
            <a:custGeom>
              <a:avLst/>
              <a:gdLst/>
              <a:ahLst/>
              <a:rect l="l" t="t" r="r" b="b"/>
              <a:pathLst>
                <a:path w="2047" h="1031">
                  <a:moveTo>
                    <a:pt x="1" y="1025"/>
                  </a:moveTo>
                  <a:lnTo>
                    <a:pt x="115" y="1031"/>
                  </a:lnTo>
                  <a:lnTo>
                    <a:pt x="171" y="1031"/>
                  </a:lnTo>
                  <a:lnTo>
                    <a:pt x="238" y="1031"/>
                  </a:lnTo>
                  <a:lnTo>
                    <a:pt x="302" y="1029"/>
                  </a:lnTo>
                  <a:lnTo>
                    <a:pt x="364" y="1025"/>
                  </a:lnTo>
                  <a:lnTo>
                    <a:pt x="427" y="1019"/>
                  </a:lnTo>
                  <a:lnTo>
                    <a:pt x="483" y="1008"/>
                  </a:lnTo>
                  <a:lnTo>
                    <a:pt x="546" y="995"/>
                  </a:lnTo>
                  <a:lnTo>
                    <a:pt x="620" y="978"/>
                  </a:lnTo>
                  <a:lnTo>
                    <a:pt x="687" y="954"/>
                  </a:lnTo>
                  <a:lnTo>
                    <a:pt x="751" y="936"/>
                  </a:lnTo>
                  <a:lnTo>
                    <a:pt x="822" y="908"/>
                  </a:lnTo>
                  <a:lnTo>
                    <a:pt x="889" y="878"/>
                  </a:lnTo>
                  <a:lnTo>
                    <a:pt x="956" y="848"/>
                  </a:lnTo>
                  <a:lnTo>
                    <a:pt x="1012" y="819"/>
                  </a:lnTo>
                  <a:lnTo>
                    <a:pt x="1077" y="789"/>
                  </a:lnTo>
                  <a:lnTo>
                    <a:pt x="1129" y="760"/>
                  </a:lnTo>
                  <a:lnTo>
                    <a:pt x="1189" y="727"/>
                  </a:lnTo>
                  <a:lnTo>
                    <a:pt x="1249" y="692"/>
                  </a:lnTo>
                  <a:lnTo>
                    <a:pt x="1308" y="649"/>
                  </a:lnTo>
                  <a:lnTo>
                    <a:pt x="1360" y="616"/>
                  </a:lnTo>
                  <a:lnTo>
                    <a:pt x="1416" y="570"/>
                  </a:lnTo>
                  <a:lnTo>
                    <a:pt x="1469" y="529"/>
                  </a:lnTo>
                  <a:lnTo>
                    <a:pt x="1517" y="488"/>
                  </a:lnTo>
                  <a:lnTo>
                    <a:pt x="1557" y="442"/>
                  </a:lnTo>
                  <a:lnTo>
                    <a:pt x="1591" y="403"/>
                  </a:lnTo>
                  <a:lnTo>
                    <a:pt x="1617" y="361"/>
                  </a:lnTo>
                  <a:lnTo>
                    <a:pt x="2047" y="417"/>
                  </a:lnTo>
                  <a:lnTo>
                    <a:pt x="1981" y="387"/>
                  </a:lnTo>
                  <a:lnTo>
                    <a:pt x="1929" y="361"/>
                  </a:lnTo>
                  <a:lnTo>
                    <a:pt x="1866" y="335"/>
                  </a:lnTo>
                  <a:lnTo>
                    <a:pt x="1818" y="307"/>
                  </a:lnTo>
                  <a:lnTo>
                    <a:pt x="1777" y="282"/>
                  </a:lnTo>
                  <a:lnTo>
                    <a:pt x="1740" y="263"/>
                  </a:lnTo>
                  <a:lnTo>
                    <a:pt x="1704" y="235"/>
                  </a:lnTo>
                  <a:lnTo>
                    <a:pt x="1668" y="210"/>
                  </a:lnTo>
                  <a:lnTo>
                    <a:pt x="1629" y="180"/>
                  </a:lnTo>
                  <a:lnTo>
                    <a:pt x="1587" y="144"/>
                  </a:lnTo>
                  <a:lnTo>
                    <a:pt x="1542" y="108"/>
                  </a:lnTo>
                  <a:lnTo>
                    <a:pt x="1506" y="72"/>
                  </a:lnTo>
                  <a:lnTo>
                    <a:pt x="1466" y="32"/>
                  </a:lnTo>
                  <a:lnTo>
                    <a:pt x="1435" y="0"/>
                  </a:lnTo>
                  <a:lnTo>
                    <a:pt x="1402" y="11"/>
                  </a:lnTo>
                  <a:lnTo>
                    <a:pt x="1368" y="30"/>
                  </a:lnTo>
                  <a:lnTo>
                    <a:pt x="1332" y="45"/>
                  </a:lnTo>
                  <a:lnTo>
                    <a:pt x="1290" y="64"/>
                  </a:lnTo>
                  <a:lnTo>
                    <a:pt x="1246" y="82"/>
                  </a:lnTo>
                  <a:lnTo>
                    <a:pt x="1206" y="95"/>
                  </a:lnTo>
                  <a:lnTo>
                    <a:pt x="1168" y="106"/>
                  </a:lnTo>
                  <a:lnTo>
                    <a:pt x="1124" y="121"/>
                  </a:lnTo>
                  <a:lnTo>
                    <a:pt x="1079" y="131"/>
                  </a:lnTo>
                  <a:lnTo>
                    <a:pt x="1031" y="144"/>
                  </a:lnTo>
                  <a:lnTo>
                    <a:pt x="987" y="156"/>
                  </a:lnTo>
                  <a:lnTo>
                    <a:pt x="945" y="167"/>
                  </a:lnTo>
                  <a:lnTo>
                    <a:pt x="899" y="174"/>
                  </a:lnTo>
                  <a:lnTo>
                    <a:pt x="855" y="184"/>
                  </a:lnTo>
                  <a:lnTo>
                    <a:pt x="814" y="193"/>
                  </a:lnTo>
                  <a:lnTo>
                    <a:pt x="766" y="204"/>
                  </a:lnTo>
                  <a:lnTo>
                    <a:pt x="700" y="212"/>
                  </a:lnTo>
                  <a:lnTo>
                    <a:pt x="1148" y="290"/>
                  </a:lnTo>
                  <a:lnTo>
                    <a:pt x="1118" y="350"/>
                  </a:lnTo>
                  <a:lnTo>
                    <a:pt x="1084" y="394"/>
                  </a:lnTo>
                  <a:lnTo>
                    <a:pt x="1020" y="479"/>
                  </a:lnTo>
                  <a:lnTo>
                    <a:pt x="982" y="518"/>
                  </a:lnTo>
                  <a:lnTo>
                    <a:pt x="945" y="556"/>
                  </a:lnTo>
                  <a:lnTo>
                    <a:pt x="893" y="603"/>
                  </a:lnTo>
                  <a:lnTo>
                    <a:pt x="837" y="656"/>
                  </a:lnTo>
                  <a:lnTo>
                    <a:pt x="781" y="693"/>
                  </a:lnTo>
                  <a:lnTo>
                    <a:pt x="706" y="745"/>
                  </a:lnTo>
                  <a:lnTo>
                    <a:pt x="643" y="778"/>
                  </a:lnTo>
                  <a:lnTo>
                    <a:pt x="583" y="811"/>
                  </a:lnTo>
                  <a:lnTo>
                    <a:pt x="531" y="837"/>
                  </a:lnTo>
                  <a:lnTo>
                    <a:pt x="495" y="855"/>
                  </a:lnTo>
                  <a:lnTo>
                    <a:pt x="427" y="873"/>
                  </a:lnTo>
                  <a:lnTo>
                    <a:pt x="368" y="892"/>
                  </a:lnTo>
                  <a:lnTo>
                    <a:pt x="302" y="914"/>
                  </a:lnTo>
                  <a:lnTo>
                    <a:pt x="209" y="929"/>
                  </a:lnTo>
                  <a:lnTo>
                    <a:pt x="138" y="941"/>
                  </a:lnTo>
                  <a:lnTo>
                    <a:pt x="0" y="944"/>
                  </a:lnTo>
                  <a:lnTo>
                    <a:pt x="1" y="102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4666200">
              <a:off x="920160" y="2895120"/>
              <a:ext cx="1370160" cy="914400"/>
            </a:xfrm>
            <a:custGeom>
              <a:avLst/>
              <a:gdLst/>
              <a:ahLst/>
              <a:rect l="l" t="t" r="r" b="b"/>
              <a:pathLst>
                <a:path w="2047" h="1064">
                  <a:moveTo>
                    <a:pt x="0" y="1056"/>
                  </a:moveTo>
                  <a:lnTo>
                    <a:pt x="113" y="1064"/>
                  </a:lnTo>
                  <a:lnTo>
                    <a:pt x="169" y="1064"/>
                  </a:lnTo>
                  <a:lnTo>
                    <a:pt x="236" y="1064"/>
                  </a:lnTo>
                  <a:lnTo>
                    <a:pt x="300" y="1060"/>
                  </a:lnTo>
                  <a:lnTo>
                    <a:pt x="362" y="1056"/>
                  </a:lnTo>
                  <a:lnTo>
                    <a:pt x="425" y="1049"/>
                  </a:lnTo>
                  <a:lnTo>
                    <a:pt x="481" y="1038"/>
                  </a:lnTo>
                  <a:lnTo>
                    <a:pt x="543" y="1025"/>
                  </a:lnTo>
                  <a:lnTo>
                    <a:pt x="618" y="1006"/>
                  </a:lnTo>
                  <a:lnTo>
                    <a:pt x="685" y="983"/>
                  </a:lnTo>
                  <a:lnTo>
                    <a:pt x="749" y="963"/>
                  </a:lnTo>
                  <a:lnTo>
                    <a:pt x="820" y="937"/>
                  </a:lnTo>
                  <a:lnTo>
                    <a:pt x="887" y="906"/>
                  </a:lnTo>
                  <a:lnTo>
                    <a:pt x="954" y="875"/>
                  </a:lnTo>
                  <a:lnTo>
                    <a:pt x="1010" y="843"/>
                  </a:lnTo>
                  <a:lnTo>
                    <a:pt x="1075" y="812"/>
                  </a:lnTo>
                  <a:lnTo>
                    <a:pt x="1127" y="783"/>
                  </a:lnTo>
                  <a:lnTo>
                    <a:pt x="1187" y="748"/>
                  </a:lnTo>
                  <a:lnTo>
                    <a:pt x="1246" y="713"/>
                  </a:lnTo>
                  <a:lnTo>
                    <a:pt x="1306" y="669"/>
                  </a:lnTo>
                  <a:lnTo>
                    <a:pt x="1358" y="635"/>
                  </a:lnTo>
                  <a:lnTo>
                    <a:pt x="1414" y="587"/>
                  </a:lnTo>
                  <a:lnTo>
                    <a:pt x="1466" y="545"/>
                  </a:lnTo>
                  <a:lnTo>
                    <a:pt x="1515" y="501"/>
                  </a:lnTo>
                  <a:lnTo>
                    <a:pt x="1555" y="454"/>
                  </a:lnTo>
                  <a:lnTo>
                    <a:pt x="1588" y="416"/>
                  </a:lnTo>
                  <a:lnTo>
                    <a:pt x="1615" y="372"/>
                  </a:lnTo>
                  <a:lnTo>
                    <a:pt x="2047" y="429"/>
                  </a:lnTo>
                  <a:lnTo>
                    <a:pt x="1979" y="399"/>
                  </a:lnTo>
                  <a:lnTo>
                    <a:pt x="1927" y="372"/>
                  </a:lnTo>
                  <a:lnTo>
                    <a:pt x="1863" y="345"/>
                  </a:lnTo>
                  <a:lnTo>
                    <a:pt x="1816" y="317"/>
                  </a:lnTo>
                  <a:lnTo>
                    <a:pt x="1775" y="291"/>
                  </a:lnTo>
                  <a:lnTo>
                    <a:pt x="1738" y="271"/>
                  </a:lnTo>
                  <a:lnTo>
                    <a:pt x="1702" y="243"/>
                  </a:lnTo>
                  <a:lnTo>
                    <a:pt x="1666" y="217"/>
                  </a:lnTo>
                  <a:lnTo>
                    <a:pt x="1627" y="187"/>
                  </a:lnTo>
                  <a:lnTo>
                    <a:pt x="1585" y="149"/>
                  </a:lnTo>
                  <a:lnTo>
                    <a:pt x="1540" y="113"/>
                  </a:lnTo>
                  <a:lnTo>
                    <a:pt x="1504" y="76"/>
                  </a:lnTo>
                  <a:lnTo>
                    <a:pt x="1464" y="35"/>
                  </a:lnTo>
                  <a:lnTo>
                    <a:pt x="1433" y="0"/>
                  </a:lnTo>
                  <a:lnTo>
                    <a:pt x="1399" y="13"/>
                  </a:lnTo>
                  <a:lnTo>
                    <a:pt x="1366" y="32"/>
                  </a:lnTo>
                  <a:lnTo>
                    <a:pt x="1330" y="49"/>
                  </a:lnTo>
                  <a:lnTo>
                    <a:pt x="1287" y="67"/>
                  </a:lnTo>
                  <a:lnTo>
                    <a:pt x="1244" y="86"/>
                  </a:lnTo>
                  <a:lnTo>
                    <a:pt x="1204" y="100"/>
                  </a:lnTo>
                  <a:lnTo>
                    <a:pt x="1165" y="111"/>
                  </a:lnTo>
                  <a:lnTo>
                    <a:pt x="1122" y="124"/>
                  </a:lnTo>
                  <a:lnTo>
                    <a:pt x="1077" y="136"/>
                  </a:lnTo>
                  <a:lnTo>
                    <a:pt x="1029" y="149"/>
                  </a:lnTo>
                  <a:lnTo>
                    <a:pt x="985" y="161"/>
                  </a:lnTo>
                  <a:lnTo>
                    <a:pt x="943" y="172"/>
                  </a:lnTo>
                  <a:lnTo>
                    <a:pt x="897" y="180"/>
                  </a:lnTo>
                  <a:lnTo>
                    <a:pt x="853" y="190"/>
                  </a:lnTo>
                  <a:lnTo>
                    <a:pt x="812" y="199"/>
                  </a:lnTo>
                  <a:lnTo>
                    <a:pt x="764" y="210"/>
                  </a:lnTo>
                  <a:lnTo>
                    <a:pt x="700" y="218"/>
                  </a:lnTo>
                  <a:lnTo>
                    <a:pt x="1146" y="299"/>
                  </a:lnTo>
                  <a:lnTo>
                    <a:pt x="1116" y="361"/>
                  </a:lnTo>
                  <a:lnTo>
                    <a:pt x="1082" y="407"/>
                  </a:lnTo>
                  <a:lnTo>
                    <a:pt x="1017" y="493"/>
                  </a:lnTo>
                  <a:lnTo>
                    <a:pt x="980" y="534"/>
                  </a:lnTo>
                  <a:lnTo>
                    <a:pt x="943" y="572"/>
                  </a:lnTo>
                  <a:lnTo>
                    <a:pt x="876" y="638"/>
                  </a:lnTo>
                  <a:lnTo>
                    <a:pt x="835" y="677"/>
                  </a:lnTo>
                  <a:lnTo>
                    <a:pt x="786" y="724"/>
                  </a:lnTo>
                  <a:lnTo>
                    <a:pt x="741" y="759"/>
                  </a:lnTo>
                  <a:lnTo>
                    <a:pt x="704" y="790"/>
                  </a:lnTo>
                  <a:lnTo>
                    <a:pt x="667" y="820"/>
                  </a:lnTo>
                  <a:lnTo>
                    <a:pt x="622" y="851"/>
                  </a:lnTo>
                  <a:lnTo>
                    <a:pt x="573" y="882"/>
                  </a:lnTo>
                  <a:lnTo>
                    <a:pt x="525" y="906"/>
                  </a:lnTo>
                  <a:lnTo>
                    <a:pt x="478" y="933"/>
                  </a:lnTo>
                  <a:lnTo>
                    <a:pt x="418" y="955"/>
                  </a:lnTo>
                  <a:lnTo>
                    <a:pt x="362" y="974"/>
                  </a:lnTo>
                  <a:lnTo>
                    <a:pt x="300" y="990"/>
                  </a:lnTo>
                  <a:lnTo>
                    <a:pt x="240" y="1006"/>
                  </a:lnTo>
                  <a:lnTo>
                    <a:pt x="176" y="1021"/>
                  </a:lnTo>
                  <a:lnTo>
                    <a:pt x="107" y="1035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146320" y="2901960"/>
            <a:ext cx="1773360" cy="129384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Most Lik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890440" y="4034160"/>
            <a:ext cx="1245600" cy="1544760"/>
            <a:chOff x="2890440" y="4034160"/>
            <a:chExt cx="1245600" cy="1544760"/>
          </a:xfrm>
        </p:grpSpPr>
        <p:sp>
          <p:nvSpPr>
            <p:cNvPr id="675" name=""/>
            <p:cNvSpPr/>
            <p:nvPr/>
          </p:nvSpPr>
          <p:spPr>
            <a:xfrm rot="4666200">
              <a:off x="3573720" y="4619160"/>
              <a:ext cx="295560" cy="147960"/>
            </a:xfrm>
            <a:custGeom>
              <a:avLst/>
              <a:gdLst/>
              <a:ahLst/>
              <a:rect l="l" t="t" r="r" b="b"/>
              <a:pathLst>
                <a:path w="443" h="171">
                  <a:moveTo>
                    <a:pt x="0" y="101"/>
                  </a:moveTo>
                  <a:lnTo>
                    <a:pt x="0" y="0"/>
                  </a:lnTo>
                  <a:lnTo>
                    <a:pt x="443" y="78"/>
                  </a:lnTo>
                  <a:lnTo>
                    <a:pt x="436" y="124"/>
                  </a:lnTo>
                  <a:lnTo>
                    <a:pt x="406" y="17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4666200">
              <a:off x="3594600" y="5241240"/>
              <a:ext cx="284760" cy="14256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427" y="165"/>
                  </a:moveTo>
                  <a:lnTo>
                    <a:pt x="426" y="72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427" y="16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4666200">
              <a:off x="2782800" y="4373280"/>
              <a:ext cx="1369800" cy="884880"/>
            </a:xfrm>
            <a:custGeom>
              <a:avLst/>
              <a:gdLst/>
              <a:ahLst/>
              <a:rect l="l" t="t" r="r" b="b"/>
              <a:pathLst>
                <a:path w="2047" h="1031">
                  <a:moveTo>
                    <a:pt x="1" y="1025"/>
                  </a:moveTo>
                  <a:lnTo>
                    <a:pt x="115" y="1031"/>
                  </a:lnTo>
                  <a:lnTo>
                    <a:pt x="171" y="1031"/>
                  </a:lnTo>
                  <a:lnTo>
                    <a:pt x="238" y="1031"/>
                  </a:lnTo>
                  <a:lnTo>
                    <a:pt x="302" y="1029"/>
                  </a:lnTo>
                  <a:lnTo>
                    <a:pt x="364" y="1025"/>
                  </a:lnTo>
                  <a:lnTo>
                    <a:pt x="427" y="1019"/>
                  </a:lnTo>
                  <a:lnTo>
                    <a:pt x="483" y="1008"/>
                  </a:lnTo>
                  <a:lnTo>
                    <a:pt x="546" y="995"/>
                  </a:lnTo>
                  <a:lnTo>
                    <a:pt x="620" y="978"/>
                  </a:lnTo>
                  <a:lnTo>
                    <a:pt x="687" y="954"/>
                  </a:lnTo>
                  <a:lnTo>
                    <a:pt x="751" y="936"/>
                  </a:lnTo>
                  <a:lnTo>
                    <a:pt x="822" y="908"/>
                  </a:lnTo>
                  <a:lnTo>
                    <a:pt x="889" y="878"/>
                  </a:lnTo>
                  <a:lnTo>
                    <a:pt x="956" y="848"/>
                  </a:lnTo>
                  <a:lnTo>
                    <a:pt x="1012" y="819"/>
                  </a:lnTo>
                  <a:lnTo>
                    <a:pt x="1077" y="789"/>
                  </a:lnTo>
                  <a:lnTo>
                    <a:pt x="1129" y="760"/>
                  </a:lnTo>
                  <a:lnTo>
                    <a:pt x="1189" y="727"/>
                  </a:lnTo>
                  <a:lnTo>
                    <a:pt x="1249" y="692"/>
                  </a:lnTo>
                  <a:lnTo>
                    <a:pt x="1308" y="649"/>
                  </a:lnTo>
                  <a:lnTo>
                    <a:pt x="1360" y="616"/>
                  </a:lnTo>
                  <a:lnTo>
                    <a:pt x="1416" y="570"/>
                  </a:lnTo>
                  <a:lnTo>
                    <a:pt x="1469" y="529"/>
                  </a:lnTo>
                  <a:lnTo>
                    <a:pt x="1517" y="488"/>
                  </a:lnTo>
                  <a:lnTo>
                    <a:pt x="1557" y="442"/>
                  </a:lnTo>
                  <a:lnTo>
                    <a:pt x="1591" y="403"/>
                  </a:lnTo>
                  <a:lnTo>
                    <a:pt x="1617" y="361"/>
                  </a:lnTo>
                  <a:lnTo>
                    <a:pt x="2047" y="417"/>
                  </a:lnTo>
                  <a:lnTo>
                    <a:pt x="1981" y="387"/>
                  </a:lnTo>
                  <a:lnTo>
                    <a:pt x="1929" y="361"/>
                  </a:lnTo>
                  <a:lnTo>
                    <a:pt x="1866" y="335"/>
                  </a:lnTo>
                  <a:lnTo>
                    <a:pt x="1818" y="307"/>
                  </a:lnTo>
                  <a:lnTo>
                    <a:pt x="1777" y="282"/>
                  </a:lnTo>
                  <a:lnTo>
                    <a:pt x="1740" y="263"/>
                  </a:lnTo>
                  <a:lnTo>
                    <a:pt x="1704" y="235"/>
                  </a:lnTo>
                  <a:lnTo>
                    <a:pt x="1668" y="210"/>
                  </a:lnTo>
                  <a:lnTo>
                    <a:pt x="1629" y="180"/>
                  </a:lnTo>
                  <a:lnTo>
                    <a:pt x="1587" y="144"/>
                  </a:lnTo>
                  <a:lnTo>
                    <a:pt x="1542" y="108"/>
                  </a:lnTo>
                  <a:lnTo>
                    <a:pt x="1506" y="72"/>
                  </a:lnTo>
                  <a:lnTo>
                    <a:pt x="1466" y="32"/>
                  </a:lnTo>
                  <a:lnTo>
                    <a:pt x="1435" y="0"/>
                  </a:lnTo>
                  <a:lnTo>
                    <a:pt x="1402" y="11"/>
                  </a:lnTo>
                  <a:lnTo>
                    <a:pt x="1368" y="30"/>
                  </a:lnTo>
                  <a:lnTo>
                    <a:pt x="1332" y="45"/>
                  </a:lnTo>
                  <a:lnTo>
                    <a:pt x="1290" y="64"/>
                  </a:lnTo>
                  <a:lnTo>
                    <a:pt x="1246" y="82"/>
                  </a:lnTo>
                  <a:lnTo>
                    <a:pt x="1206" y="95"/>
                  </a:lnTo>
                  <a:lnTo>
                    <a:pt x="1168" y="106"/>
                  </a:lnTo>
                  <a:lnTo>
                    <a:pt x="1124" y="121"/>
                  </a:lnTo>
                  <a:lnTo>
                    <a:pt x="1079" y="131"/>
                  </a:lnTo>
                  <a:lnTo>
                    <a:pt x="1031" y="144"/>
                  </a:lnTo>
                  <a:lnTo>
                    <a:pt x="987" y="156"/>
                  </a:lnTo>
                  <a:lnTo>
                    <a:pt x="945" y="167"/>
                  </a:lnTo>
                  <a:lnTo>
                    <a:pt x="899" y="174"/>
                  </a:lnTo>
                  <a:lnTo>
                    <a:pt x="855" y="184"/>
                  </a:lnTo>
                  <a:lnTo>
                    <a:pt x="814" y="193"/>
                  </a:lnTo>
                  <a:lnTo>
                    <a:pt x="766" y="204"/>
                  </a:lnTo>
                  <a:lnTo>
                    <a:pt x="700" y="212"/>
                  </a:lnTo>
                  <a:lnTo>
                    <a:pt x="1148" y="290"/>
                  </a:lnTo>
                  <a:lnTo>
                    <a:pt x="1118" y="350"/>
                  </a:lnTo>
                  <a:lnTo>
                    <a:pt x="1084" y="394"/>
                  </a:lnTo>
                  <a:lnTo>
                    <a:pt x="1020" y="479"/>
                  </a:lnTo>
                  <a:lnTo>
                    <a:pt x="982" y="518"/>
                  </a:lnTo>
                  <a:lnTo>
                    <a:pt x="945" y="556"/>
                  </a:lnTo>
                  <a:lnTo>
                    <a:pt x="893" y="603"/>
                  </a:lnTo>
                  <a:lnTo>
                    <a:pt x="837" y="656"/>
                  </a:lnTo>
                  <a:lnTo>
                    <a:pt x="781" y="693"/>
                  </a:lnTo>
                  <a:lnTo>
                    <a:pt x="706" y="745"/>
                  </a:lnTo>
                  <a:lnTo>
                    <a:pt x="643" y="778"/>
                  </a:lnTo>
                  <a:lnTo>
                    <a:pt x="583" y="811"/>
                  </a:lnTo>
                  <a:lnTo>
                    <a:pt x="531" y="837"/>
                  </a:lnTo>
                  <a:lnTo>
                    <a:pt x="495" y="855"/>
                  </a:lnTo>
                  <a:lnTo>
                    <a:pt x="427" y="873"/>
                  </a:lnTo>
                  <a:lnTo>
                    <a:pt x="368" y="892"/>
                  </a:lnTo>
                  <a:lnTo>
                    <a:pt x="302" y="914"/>
                  </a:lnTo>
                  <a:lnTo>
                    <a:pt x="209" y="929"/>
                  </a:lnTo>
                  <a:lnTo>
                    <a:pt x="138" y="941"/>
                  </a:lnTo>
                  <a:lnTo>
                    <a:pt x="0" y="944"/>
                  </a:lnTo>
                  <a:lnTo>
                    <a:pt x="1" y="1025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4666200">
              <a:off x="2859120" y="4343400"/>
              <a:ext cx="1370160" cy="914040"/>
            </a:xfrm>
            <a:custGeom>
              <a:avLst/>
              <a:gdLst/>
              <a:ahLst/>
              <a:rect l="l" t="t" r="r" b="b"/>
              <a:pathLst>
                <a:path w="2047" h="1064">
                  <a:moveTo>
                    <a:pt x="0" y="1056"/>
                  </a:moveTo>
                  <a:lnTo>
                    <a:pt x="113" y="1064"/>
                  </a:lnTo>
                  <a:lnTo>
                    <a:pt x="169" y="1064"/>
                  </a:lnTo>
                  <a:lnTo>
                    <a:pt x="236" y="1064"/>
                  </a:lnTo>
                  <a:lnTo>
                    <a:pt x="300" y="1060"/>
                  </a:lnTo>
                  <a:lnTo>
                    <a:pt x="362" y="1056"/>
                  </a:lnTo>
                  <a:lnTo>
                    <a:pt x="425" y="1049"/>
                  </a:lnTo>
                  <a:lnTo>
                    <a:pt x="481" y="1038"/>
                  </a:lnTo>
                  <a:lnTo>
                    <a:pt x="543" y="1025"/>
                  </a:lnTo>
                  <a:lnTo>
                    <a:pt x="618" y="1006"/>
                  </a:lnTo>
                  <a:lnTo>
                    <a:pt x="685" y="983"/>
                  </a:lnTo>
                  <a:lnTo>
                    <a:pt x="749" y="963"/>
                  </a:lnTo>
                  <a:lnTo>
                    <a:pt x="820" y="937"/>
                  </a:lnTo>
                  <a:lnTo>
                    <a:pt x="887" y="906"/>
                  </a:lnTo>
                  <a:lnTo>
                    <a:pt x="954" y="875"/>
                  </a:lnTo>
                  <a:lnTo>
                    <a:pt x="1010" y="843"/>
                  </a:lnTo>
                  <a:lnTo>
                    <a:pt x="1075" y="812"/>
                  </a:lnTo>
                  <a:lnTo>
                    <a:pt x="1127" y="783"/>
                  </a:lnTo>
                  <a:lnTo>
                    <a:pt x="1187" y="748"/>
                  </a:lnTo>
                  <a:lnTo>
                    <a:pt x="1246" y="713"/>
                  </a:lnTo>
                  <a:lnTo>
                    <a:pt x="1306" y="669"/>
                  </a:lnTo>
                  <a:lnTo>
                    <a:pt x="1358" y="635"/>
                  </a:lnTo>
                  <a:lnTo>
                    <a:pt x="1414" y="587"/>
                  </a:lnTo>
                  <a:lnTo>
                    <a:pt x="1466" y="545"/>
                  </a:lnTo>
                  <a:lnTo>
                    <a:pt x="1515" y="501"/>
                  </a:lnTo>
                  <a:lnTo>
                    <a:pt x="1555" y="454"/>
                  </a:lnTo>
                  <a:lnTo>
                    <a:pt x="1588" y="416"/>
                  </a:lnTo>
                  <a:lnTo>
                    <a:pt x="1615" y="372"/>
                  </a:lnTo>
                  <a:lnTo>
                    <a:pt x="2047" y="429"/>
                  </a:lnTo>
                  <a:lnTo>
                    <a:pt x="1979" y="399"/>
                  </a:lnTo>
                  <a:lnTo>
                    <a:pt x="1927" y="372"/>
                  </a:lnTo>
                  <a:lnTo>
                    <a:pt x="1863" y="345"/>
                  </a:lnTo>
                  <a:lnTo>
                    <a:pt x="1816" y="317"/>
                  </a:lnTo>
                  <a:lnTo>
                    <a:pt x="1775" y="291"/>
                  </a:lnTo>
                  <a:lnTo>
                    <a:pt x="1738" y="271"/>
                  </a:lnTo>
                  <a:lnTo>
                    <a:pt x="1702" y="243"/>
                  </a:lnTo>
                  <a:lnTo>
                    <a:pt x="1666" y="217"/>
                  </a:lnTo>
                  <a:lnTo>
                    <a:pt x="1627" y="187"/>
                  </a:lnTo>
                  <a:lnTo>
                    <a:pt x="1585" y="149"/>
                  </a:lnTo>
                  <a:lnTo>
                    <a:pt x="1540" y="113"/>
                  </a:lnTo>
                  <a:lnTo>
                    <a:pt x="1504" y="76"/>
                  </a:lnTo>
                  <a:lnTo>
                    <a:pt x="1464" y="35"/>
                  </a:lnTo>
                  <a:lnTo>
                    <a:pt x="1433" y="0"/>
                  </a:lnTo>
                  <a:lnTo>
                    <a:pt x="1399" y="13"/>
                  </a:lnTo>
                  <a:lnTo>
                    <a:pt x="1366" y="32"/>
                  </a:lnTo>
                  <a:lnTo>
                    <a:pt x="1330" y="49"/>
                  </a:lnTo>
                  <a:lnTo>
                    <a:pt x="1287" y="67"/>
                  </a:lnTo>
                  <a:lnTo>
                    <a:pt x="1244" y="86"/>
                  </a:lnTo>
                  <a:lnTo>
                    <a:pt x="1204" y="100"/>
                  </a:lnTo>
                  <a:lnTo>
                    <a:pt x="1165" y="111"/>
                  </a:lnTo>
                  <a:lnTo>
                    <a:pt x="1122" y="124"/>
                  </a:lnTo>
                  <a:lnTo>
                    <a:pt x="1077" y="136"/>
                  </a:lnTo>
                  <a:lnTo>
                    <a:pt x="1029" y="149"/>
                  </a:lnTo>
                  <a:lnTo>
                    <a:pt x="985" y="161"/>
                  </a:lnTo>
                  <a:lnTo>
                    <a:pt x="943" y="172"/>
                  </a:lnTo>
                  <a:lnTo>
                    <a:pt x="897" y="180"/>
                  </a:lnTo>
                  <a:lnTo>
                    <a:pt x="853" y="190"/>
                  </a:lnTo>
                  <a:lnTo>
                    <a:pt x="812" y="199"/>
                  </a:lnTo>
                  <a:lnTo>
                    <a:pt x="764" y="210"/>
                  </a:lnTo>
                  <a:lnTo>
                    <a:pt x="700" y="218"/>
                  </a:lnTo>
                  <a:lnTo>
                    <a:pt x="1146" y="299"/>
                  </a:lnTo>
                  <a:lnTo>
                    <a:pt x="1116" y="361"/>
                  </a:lnTo>
                  <a:lnTo>
                    <a:pt x="1082" y="407"/>
                  </a:lnTo>
                  <a:lnTo>
                    <a:pt x="1017" y="493"/>
                  </a:lnTo>
                  <a:lnTo>
                    <a:pt x="980" y="534"/>
                  </a:lnTo>
                  <a:lnTo>
                    <a:pt x="943" y="572"/>
                  </a:lnTo>
                  <a:lnTo>
                    <a:pt x="876" y="638"/>
                  </a:lnTo>
                  <a:lnTo>
                    <a:pt x="835" y="677"/>
                  </a:lnTo>
                  <a:lnTo>
                    <a:pt x="786" y="724"/>
                  </a:lnTo>
                  <a:lnTo>
                    <a:pt x="741" y="759"/>
                  </a:lnTo>
                  <a:lnTo>
                    <a:pt x="704" y="790"/>
                  </a:lnTo>
                  <a:lnTo>
                    <a:pt x="667" y="820"/>
                  </a:lnTo>
                  <a:lnTo>
                    <a:pt x="622" y="851"/>
                  </a:lnTo>
                  <a:lnTo>
                    <a:pt x="573" y="882"/>
                  </a:lnTo>
                  <a:lnTo>
                    <a:pt x="525" y="906"/>
                  </a:lnTo>
                  <a:lnTo>
                    <a:pt x="478" y="933"/>
                  </a:lnTo>
                  <a:lnTo>
                    <a:pt x="418" y="955"/>
                  </a:lnTo>
                  <a:lnTo>
                    <a:pt x="362" y="974"/>
                  </a:lnTo>
                  <a:lnTo>
                    <a:pt x="300" y="990"/>
                  </a:lnTo>
                  <a:lnTo>
                    <a:pt x="240" y="1006"/>
                  </a:lnTo>
                  <a:lnTo>
                    <a:pt x="176" y="1021"/>
                  </a:lnTo>
                  <a:lnTo>
                    <a:pt x="107" y="1035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127400" y="4349880"/>
            <a:ext cx="1898640" cy="129384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ugges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08240" y="1447920"/>
            <a:ext cx="70992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lnSpc>
                <a:spcPct val="100000"/>
              </a:lnSpc>
              <a:spcBef>
                <a:spcPts val="300"/>
              </a:spcBef>
              <a:buClr>
                <a:srgbClr val="f98d43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DCL will not be the outsourced billing function for Company A for PowerCaLL, VoiceCall, Datalink Direct, Datalink Remote and Privatelink custom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300"/>
              </a:spcBef>
              <a:buClr>
                <a:srgbClr val="f98d43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The accounts receivable feed from Arbor/BP will be posted to the company general ledg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300"/>
              </a:spcBef>
              <a:buClr>
                <a:srgbClr val="f98d43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SAP 4.6 upgrade/migration will be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27400" y="3013200"/>
            <a:ext cx="5531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The ‘most likely’ environment is defined as the current architecture incorporating modifications from global initiatives i.e  the worldwide SFA/CRM solution and other strategic business decisions i.e accounts receivable will be supported by the ERP applications, not the billing applic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91280" y="4425840"/>
            <a:ext cx="3714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The ‘recommended’ environment evaluates the total architecture solution (beyond the narrow scope of billing) and seeks to create a rationalised view of capabilities and integration across applications. The implementation supports the longer term objectives of Company 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54240" y="5943600"/>
            <a:ext cx="6521400" cy="609480"/>
          </a:xfrm>
          <a:prstGeom prst="rect">
            <a:avLst/>
          </a:prstGeom>
          <a:solidFill>
            <a:srgbClr val="9999ff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echnical Storybo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Z Business Model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pany 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orporated in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vider of global internet and long  distance facilities and services utilizing a network of  undersea digital fiber optic and associated terrestrial  backhaul capac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ently acquired traditional access provider in the UK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storically targeted carriers for international access, business model is changing to target MNCs for private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mpany A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33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Product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P trans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M/Frame R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rk Fib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-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al 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980720"/>
            <a:ext cx="4133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ional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Link 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Link Remo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ic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vate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9810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50960" y="1371600"/>
            <a:ext cx="6356520" cy="380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Operating As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Interdepen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106200"/>
            <a:ext cx="8420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oitte Consulting Worked As A Team Defining Billing Requirem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14840" y="1295280"/>
            <a:ext cx="206352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an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8520" y="3352680"/>
            <a:ext cx="206352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loitte Consul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1160" y="3352680"/>
            <a:ext cx="206352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ucent SP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200" y="4648320"/>
            <a:ext cx="3363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ceptual Systems Archi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chnical Archi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ceptual Integration Archi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st Strate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raining Approa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version &amp; Migration Strate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54280" y="4648320"/>
            <a:ext cx="11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9120" y="4648320"/>
            <a:ext cx="330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A Pl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ubject Matter Expert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2800" y="5773680"/>
            <a:ext cx="510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The culmination of this stag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 completed Release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309840" y="1279440"/>
          <a:ext cx="213048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1279440"/>
                    <a:ext cx="213048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06200"/>
            <a:ext cx="84200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oitte Consulting Developed The Implementation Roadma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6320" y="2884320"/>
            <a:ext cx="404496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40320" y="2884320"/>
            <a:ext cx="165096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0320" y="2884320"/>
            <a:ext cx="16509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40320" y="3036960"/>
            <a:ext cx="4125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036960"/>
            <a:ext cx="4129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5800" y="3036960"/>
            <a:ext cx="4125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Consultativ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8360" y="3036960"/>
            <a:ext cx="4129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Informativ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9360" y="2884320"/>
            <a:ext cx="165096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360" y="2884320"/>
            <a:ext cx="16509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loitte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89360" y="3036960"/>
            <a:ext cx="4125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01920" y="3036960"/>
            <a:ext cx="4129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4840" y="3036960"/>
            <a:ext cx="4125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Consultativ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27400" y="3036960"/>
            <a:ext cx="4129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Arial"/>
              </a:rPr>
              <a:t>Informative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01920" y="3189240"/>
            <a:ext cx="4129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7400" y="3189240"/>
            <a:ext cx="8254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5800" y="3189240"/>
            <a:ext cx="41256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74760" y="3233160"/>
            <a:ext cx="627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Deliverable 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3040" y="3233160"/>
            <a:ext cx="31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W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15960" y="3233160"/>
            <a:ext cx="316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MW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23400" y="3233160"/>
            <a:ext cx="52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44560" y="4122720"/>
            <a:ext cx="1977840" cy="990360"/>
            <a:chOff x="2644560" y="4122720"/>
            <a:chExt cx="1977840" cy="990360"/>
          </a:xfrm>
        </p:grpSpPr>
        <p:sp>
          <p:nvSpPr>
            <p:cNvPr id="130" name=""/>
            <p:cNvSpPr/>
            <p:nvPr/>
          </p:nvSpPr>
          <p:spPr>
            <a:xfrm>
              <a:off x="2724120" y="4122720"/>
              <a:ext cx="18982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44560" y="4416480"/>
              <a:ext cx="627120" cy="531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iverable 1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8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ilestone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8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ilestone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87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ilestone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436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6716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9600" y="4122720"/>
              <a:ext cx="820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3204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484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97280" y="4122720"/>
              <a:ext cx="820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972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6216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44960" y="4122720"/>
              <a:ext cx="820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2740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984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2640" y="4122720"/>
              <a:ext cx="820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7508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57520" y="4122720"/>
              <a:ext cx="8244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40320" y="4122720"/>
              <a:ext cx="82080" cy="990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67160" y="4579920"/>
              <a:ext cx="82440" cy="75960"/>
            </a:xfrm>
            <a:prstGeom prst="diamond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9720" y="4703760"/>
              <a:ext cx="82440" cy="75960"/>
            </a:xfrm>
            <a:prstGeom prst="diamond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92640" y="4808520"/>
              <a:ext cx="82080" cy="75960"/>
            </a:xfrm>
            <a:prstGeom prst="diamond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4360" y="4122720"/>
              <a:ext cx="1238040" cy="1522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2728800">
            <a:off x="3441240" y="2624040"/>
            <a:ext cx="228600" cy="33012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25920" y="5240520"/>
            <a:ext cx="444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roject work plan is described at 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w level of detail.  It includes milestone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iverables, timing, critical path depend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oth internal and external), key decision dat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ource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92120" y="4120560"/>
            <a:ext cx="407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ilestone chart identifies and tracks a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lestones relative to their deliverable.  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ch deliverable, a visible tracking of al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gnificant milestone activities is plot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38960" y="3007440"/>
            <a:ext cx="281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ach deliverable, 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les and responsibilities 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nt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17080" y="1495080"/>
            <a:ext cx="393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oadmap represents the deliverab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the form of a PERT chart.  Ea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iverable is fully described in terms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e, description, owner and sco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192024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ject Road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720" y="301572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liv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sponsi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8600" y="441108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lestone Ti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2600" y="545544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ork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728800">
            <a:off x="3600000" y="3900600"/>
            <a:ext cx="228600" cy="33012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486080" y="5303880"/>
            <a:ext cx="2476080" cy="1096920"/>
            <a:chOff x="1486080" y="5303880"/>
            <a:chExt cx="2476080" cy="1096920"/>
          </a:xfrm>
        </p:grpSpPr>
        <p:sp>
          <p:nvSpPr>
            <p:cNvPr id="162" name=""/>
            <p:cNvSpPr/>
            <p:nvPr/>
          </p:nvSpPr>
          <p:spPr>
            <a:xfrm>
              <a:off x="1486080" y="5303880"/>
              <a:ext cx="2476080" cy="1096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1486080" y="5303880"/>
            <a:ext cx="2466000" cy="108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86080" y="5303880"/>
                      <a:ext cx="2466000" cy="108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"/>
          <p:cNvSpPr/>
          <p:nvPr/>
        </p:nvSpPr>
        <p:spPr>
          <a:xfrm rot="2728800">
            <a:off x="2526840" y="4986360"/>
            <a:ext cx="228600" cy="33012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0d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 Poi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Who is Company 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98d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d43"/>
                </a:solidFill>
                <a:latin typeface="Arial"/>
              </a:rPr>
              <a:t>Deloitte Consulting’s Role at Company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8:37:35Z</dcterms:created>
  <dc:creator>Deloitte &amp; Touche Consulting</dc:creator>
  <dc:description/>
  <dc:language>en-US</dc:language>
  <cp:lastModifiedBy>Deloitte Consulting</cp:lastModifiedBy>
  <cp:lastPrinted>1999-12-03T12:20:24Z</cp:lastPrinted>
  <dcterms:modified xsi:type="dcterms:W3CDTF">2001-02-09T15:57:34Z</dcterms:modified>
  <cp:revision>158</cp:revision>
  <dc:subject/>
  <dc:title>No Slide Title</dc:title>
</cp:coreProperties>
</file>