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B1C9-3F7D-4508-B105-D7D960D16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5C50-8BB8-4147-AA1C-C1BF20CE3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96B8-2499-4C33-9A35-3F833584D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57A6-A072-4B60-A318-4B62EF536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49CF-A59A-44FC-95BB-7B300E898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0452-E191-464F-8B8D-AF4948053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C8DD-DEAB-4B7F-8978-AC9633E6E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C32B-ACC1-4B3B-B476-F884030F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B724-2C5C-46A8-A2CB-59BC2AD48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33D7-3C27-45B2-AE1A-587D6FC5F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9C81-61B3-4B57-B404-672F6F7AF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CF3B-C3C9-4219-A525-733E713A3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g" descr=""/>
          <p:cNvPicPr/>
          <p:nvPr/>
        </p:nvPicPr>
        <p:blipFill>
          <a:blip r:embed="rId2"/>
          <a:srcRect l="22913" t="28465" r="0" b="8346"/>
          <a:stretch/>
        </p:blipFill>
        <p:spPr>
          <a:xfrm>
            <a:off x="289080" y="6165720"/>
            <a:ext cx="138888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08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969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3FE-97C8-4107-BAA5-3BBB9EEDCB3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DC_WHT" descr=""/>
          <p:cNvPicPr/>
          <p:nvPr/>
        </p:nvPicPr>
        <p:blipFill>
          <a:blip r:embed="rId3"/>
          <a:stretch/>
        </p:blipFill>
        <p:spPr>
          <a:xfrm>
            <a:off x="390600" y="6243480"/>
            <a:ext cx="120636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84360" y="1371240"/>
            <a:ext cx="577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bar2" descr=""/>
          <p:cNvPicPr/>
          <p:nvPr/>
        </p:nvPicPr>
        <p:blipFill>
          <a:blip r:embed="rId2"/>
          <a:stretch/>
        </p:blipFill>
        <p:spPr>
          <a:xfrm>
            <a:off x="0" y="5977080"/>
            <a:ext cx="9906120" cy="880920"/>
          </a:xfrm>
          <a:prstGeom prst="rect">
            <a:avLst/>
          </a:prstGeom>
          <a:ln w="0">
            <a:noFill/>
          </a:ln>
        </p:spPr>
      </p:pic>
      <p:pic>
        <p:nvPicPr>
          <p:cNvPr id="44" name="DC_WHT" descr=""/>
          <p:cNvPicPr/>
          <p:nvPr/>
        </p:nvPicPr>
        <p:blipFill>
          <a:blip r:embed="rId3"/>
          <a:stretch/>
        </p:blipFill>
        <p:spPr>
          <a:xfrm>
            <a:off x="430200" y="6012000"/>
            <a:ext cx="1747800" cy="598320"/>
          </a:xfrm>
          <a:prstGeom prst="rect">
            <a:avLst/>
          </a:prstGeom>
          <a:ln w="0">
            <a:noFill/>
          </a:ln>
        </p:spPr>
      </p:pic>
      <p:pic>
        <p:nvPicPr>
          <p:cNvPr id="45" name="tag" descr=""/>
          <p:cNvPicPr/>
          <p:nvPr/>
        </p:nvPicPr>
        <p:blipFill>
          <a:blip r:embed="rId4"/>
          <a:stretch/>
        </p:blipFill>
        <p:spPr>
          <a:xfrm>
            <a:off x="6864480" y="6072120"/>
            <a:ext cx="2697120" cy="66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84360" y="1371240"/>
            <a:ext cx="577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nabling Bundled IP/Voice for SMEs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pany Z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67160" y="3886200"/>
            <a:ext cx="569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stems Integration in the e-business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anuary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42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ny Z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CRM and Business System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066680"/>
            <a:ext cx="92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Our Solutio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066680"/>
            <a:ext cx="373392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Selling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rst live version of Siebel2000 in the Wor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rst successful migration of Siebel from NT to Solar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wo go live phases allowed the business to ‘get started’ faster and satisfy key strategic business go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espoke CORB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ddlewar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lution using BEA WebLogic enabled customer to later link with internal Object Broker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ular view of technical architecture (UNIX, Oracle, Jav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ractive web-based training for Siebel and customer specific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9160" y="1333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523880"/>
          <a:ext cx="60674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60674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04120"/>
            <a:ext cx="9906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project was delivered with 5 major threa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03480" y="1368360"/>
            <a:ext cx="7924680" cy="838440"/>
            <a:chOff x="1203480" y="1368360"/>
            <a:chExt cx="7924680" cy="838440"/>
          </a:xfrm>
        </p:grpSpPr>
        <p:sp>
          <p:nvSpPr>
            <p:cNvPr id="133" name=""/>
            <p:cNvSpPr/>
            <p:nvPr/>
          </p:nvSpPr>
          <p:spPr>
            <a:xfrm>
              <a:off x="3432240" y="1368360"/>
              <a:ext cx="5695920" cy="838440"/>
            </a:xfrm>
            <a:prstGeom prst="rect">
              <a:avLst/>
            </a:prstGeom>
            <a:solidFill>
              <a:srgbClr val="f98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everage the capabilities commercially available and dr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 high speed implemen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3480" y="1368360"/>
              <a:ext cx="1981080" cy="838440"/>
            </a:xfrm>
            <a:prstGeom prst="rect">
              <a:avLst/>
            </a:prstGeom>
            <a:solidFill>
              <a:srgbClr val="f98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ck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03480" y="2397240"/>
            <a:ext cx="7924680" cy="838080"/>
            <a:chOff x="1203480" y="2397240"/>
            <a:chExt cx="7924680" cy="838080"/>
          </a:xfrm>
        </p:grpSpPr>
        <p:sp>
          <p:nvSpPr>
            <p:cNvPr id="136" name=""/>
            <p:cNvSpPr/>
            <p:nvPr/>
          </p:nvSpPr>
          <p:spPr>
            <a:xfrm>
              <a:off x="3432240" y="2397240"/>
              <a:ext cx="5695920" cy="838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Build the infrastructure (</a:t>
              </a:r>
              <a:r>
                <a:rPr b="1" lang="en-GB" sz="1400" spc="-1" strike="noStrike">
                  <a:solidFill>
                    <a:srgbClr val="000044"/>
                  </a:solidFill>
                  <a:latin typeface="Arial"/>
                </a:rPr>
                <a:t>application and middleware solution</a:t>
              </a: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)</a:t>
              </a:r>
              <a:r>
                <a:rPr b="1" lang="en-GB" sz="1400" spc="-1" strike="noStrike">
                  <a:solidFill>
                    <a:srgbClr val="000044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and organise it to deliver </a:t>
              </a:r>
              <a:r>
                <a:rPr b="1" i="1" lang="en-US" sz="1400" spc="-1" strike="noStrike">
                  <a:solidFill>
                    <a:srgbClr val="000044"/>
                  </a:solidFill>
                  <a:latin typeface="Arial"/>
                </a:rPr>
                <a:t>fast, flexible</a:t>
              </a: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 capabilities</a:t>
              </a:r>
              <a:r>
                <a:rPr b="1" lang="en-GB" sz="1400" spc="-1" strike="noStrike">
                  <a:solidFill>
                    <a:srgbClr val="000044"/>
                  </a:solidFill>
                  <a:latin typeface="Arial"/>
                </a:rPr>
                <a:t> to the bus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03480" y="2397240"/>
              <a:ext cx="1981080" cy="838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Integr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203480" y="4456080"/>
            <a:ext cx="7924680" cy="838080"/>
            <a:chOff x="1203480" y="4456080"/>
            <a:chExt cx="7924680" cy="838080"/>
          </a:xfrm>
        </p:grpSpPr>
        <p:sp>
          <p:nvSpPr>
            <p:cNvPr id="139" name=""/>
            <p:cNvSpPr/>
            <p:nvPr/>
          </p:nvSpPr>
          <p:spPr>
            <a:xfrm>
              <a:off x="3432240" y="4456080"/>
              <a:ext cx="5695920" cy="83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44"/>
                  </a:solidFill>
                  <a:latin typeface="Arial"/>
                </a:rPr>
                <a:t>Develop and delivered a training approach that combined traditional classroom sessions with self-paced, interactive web-based training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3480" y="4456080"/>
              <a:ext cx="1981080" cy="83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44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03480" y="3427560"/>
            <a:ext cx="7924680" cy="838080"/>
            <a:chOff x="1203480" y="3427560"/>
            <a:chExt cx="7924680" cy="838080"/>
          </a:xfrm>
        </p:grpSpPr>
        <p:sp>
          <p:nvSpPr>
            <p:cNvPr id="142" name=""/>
            <p:cNvSpPr/>
            <p:nvPr/>
          </p:nvSpPr>
          <p:spPr>
            <a:xfrm>
              <a:off x="3432240" y="3427560"/>
              <a:ext cx="5695920" cy="838080"/>
            </a:xfrm>
            <a:prstGeom prst="rect">
              <a:avLst/>
            </a:prstGeom>
            <a:solidFill>
              <a:srgbClr val="e9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44"/>
                  </a:solidFill>
                  <a:latin typeface="Arial"/>
                </a:rPr>
                <a:t>Move high-level processes down to the application level defining how the application will support the required task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03480" y="3427560"/>
              <a:ext cx="1981080" cy="838080"/>
            </a:xfrm>
            <a:prstGeom prst="rect">
              <a:avLst/>
            </a:prstGeom>
            <a:solidFill>
              <a:srgbClr val="e9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44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03480" y="5486400"/>
            <a:ext cx="7924680" cy="838080"/>
            <a:chOff x="1203480" y="5486400"/>
            <a:chExt cx="7924680" cy="838080"/>
          </a:xfrm>
        </p:grpSpPr>
        <p:sp>
          <p:nvSpPr>
            <p:cNvPr id="145" name=""/>
            <p:cNvSpPr/>
            <p:nvPr/>
          </p:nvSpPr>
          <p:spPr>
            <a:xfrm>
              <a:off x="3432240" y="5486400"/>
              <a:ext cx="5695920" cy="838080"/>
            </a:xfrm>
            <a:prstGeom prst="rect">
              <a:avLst/>
            </a:prstGeom>
            <a:solidFill>
              <a:srgbClr val="b8d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Define the organisational dynamic necessary to drive th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44"/>
                  </a:solidFill>
                  <a:latin typeface="Arial"/>
                </a:rPr>
                <a:t>new business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03480" y="5486400"/>
              <a:ext cx="1981080" cy="838080"/>
            </a:xfrm>
            <a:prstGeom prst="rect">
              <a:avLst/>
            </a:prstGeom>
            <a:solidFill>
              <a:srgbClr val="b8d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44"/>
                  </a:solidFill>
                  <a:latin typeface="Arial"/>
                </a:rPr>
                <a:t>Program/Chan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44"/>
                  </a:solidFill>
                  <a:latin typeface="Arial"/>
                </a:rPr>
                <a:t>Leadershi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705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ny Z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Business Systems and C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420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Methodology and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dustryPrin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ebel Star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loitte Consulting eRoom for Programme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crosoft Projec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Project organ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60+ Deloitte Practicianers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ross all Initiatives including Change Management, Sell-Side Process &amp; Technology, eTi Development Services; Programme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Skills deployed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ep Package Expertise (Siebel, Ken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augmented by Software Suppl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UNIX, Oracle, Sybase, C++, Java, EJB, HTML, XML, Middleware (BEA WebLogi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pany Z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rporated in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rted as a joint venture between two European PTTs and a Local Market Utilit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day 100% owned by a non-local P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rd largest total provider in the German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any Z operates in Three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vate R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bile, Internet &amp; Land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siness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990720"/>
            <a:ext cx="92199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usiness Obj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core target segments are the SME business customers (10-200 employees). Small Corporates (200-500 employees) and potentially the Public sector. In both cases Company Z will use indirect and direct sales channels. The starting date for the Marketing campaign and a soft launch with a small number of SME customers is end of September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Success Cri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78000" indent="-1875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xploiting the SME market in Germany using the Point-to-Multipoint solution for bundled voice and data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78000" indent="-1875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ve 300 SME customers to maintain claim to service licences purchased from the German government in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78000" indent="-1875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CRM and Networ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rchitecture that allow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for strategic start of operations by October 20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nd the subsequ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of new servi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systems and functionality in early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Our R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oitte Consulting was contracted as th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incip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rchitect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nd overall project managers for the Siebel-bas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RM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lution and all integration to new and existing system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Company Z. Subsequent to our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lution development and rapid Siebel prototype;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ere als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ed to implement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business workflow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601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ny Z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Business Objectives and C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ducts Illustrat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6386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int-to-Multipoint is used t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onnect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veral SME sites to the PO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ing a single transmis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Th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lution can support voice, data and IP servic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schluss" descr=""/>
          <p:cNvPicPr/>
          <p:nvPr/>
        </p:nvPicPr>
        <p:blipFill>
          <a:blip r:embed="rId1"/>
          <a:srcRect l="0" t="0" r="0" b="27100"/>
          <a:stretch/>
        </p:blipFill>
        <p:spPr>
          <a:xfrm>
            <a:off x="457200" y="10666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00120" y="4724280"/>
            <a:ext cx="6257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int-to-Multipoin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presentative Timesca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1981080"/>
            <a:ext cx="3048120" cy="152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1981080"/>
            <a:ext cx="4419720" cy="152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106704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9051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0"/>
            <a:ext cx="12193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T and Line Business function invites Deloitte Consulting and a local System Integrator prepare a proposal for a rapid CRM and integrated system stack solution for the new business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286000"/>
            <a:ext cx="2743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GB" sz="1200" spc="-1" strike="noStrike">
                <a:solidFill>
                  <a:srgbClr val="cc3300"/>
                </a:solidFill>
                <a:latin typeface="Arial"/>
              </a:rPr>
              <a:t>Rapid CRM Project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Sta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ebel2000 on 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b Solution for New Or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M Requi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der Functiona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rface Siebel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ling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New Custom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rface to Docu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ining in German at 5 separate si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4176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ase 1a  Rapid Siebel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86000"/>
            <a:ext cx="29718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GB" sz="1200" spc="-1" strike="noStrike">
                <a:solidFill>
                  <a:srgbClr val="cc3300"/>
                </a:solidFill>
                <a:latin typeface="Arial"/>
              </a:rPr>
              <a:t>Integration and 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ffware2000-based workflow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pgraded Siebel2000 functiona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grated Siebel2000 from NT to Sola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room and Web-based trai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ign and implement a bespoke CORBA Middleware Solution based on BEA WebLogic integrat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ebel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ffware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erce Server Web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bor/B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spoke Credit Che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  <a:tab algn="l" pos="6251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rify for Trouble Tick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699040" y="158724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852480"/>
            <a:ext cx="14605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2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445600" y="130320"/>
          <a:ext cx="8794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0" y="130320"/>
                    <a:ext cx="8794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416800" y="2184480"/>
          <a:ext cx="12225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6800" y="2184480"/>
                    <a:ext cx="12225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80880" y="1417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ase 0 Proof of Concept Stu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4176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ase 1b  Workflow, Siebel and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llel Middle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749840" y="158760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852480"/>
            <a:ext cx="14475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8 Sept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0280" y="544032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June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9440" y="5438880"/>
            <a:ext cx="179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July - Septembe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1400" y="6019920"/>
            <a:ext cx="20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ctober 2000 – April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8:37:35Z</dcterms:created>
  <dc:creator>Deloitte &amp; Touche Consulting</dc:creator>
  <dc:description/>
  <dc:language>en-US</dc:language>
  <cp:lastModifiedBy>Deloitte Consulting</cp:lastModifiedBy>
  <cp:lastPrinted>1999-12-03T12:20:24Z</cp:lastPrinted>
  <dcterms:modified xsi:type="dcterms:W3CDTF">2001-01-29T19:03:48Z</dcterms:modified>
  <cp:revision>156</cp:revision>
  <dc:subject/>
  <dc:title>No Slide Title</dc:title>
</cp:coreProperties>
</file>