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7DD-2EA7-4F4E-B43B-E198E67D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449-3DED-449B-B3D7-A17D764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A26-0898-4437-A64A-83C54888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C61-F1C6-4C02-B4A4-ADA60A85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B94-EF98-44A9-BCEE-EEA6A7FB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970-B149-4E3B-90B5-3F15B50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D23-24DB-42C9-84A6-6AD0FEC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1D9-3C61-472D-98E5-6D43DD8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A09-24D0-46A9-8678-868694C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495-87A9-4DD9-9BA0-D161CC53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AB5-A177-4ED0-9288-622C36E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B02-1CD2-4276-A263-5241A7C5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2D54-B4B2-4092-9781-F37AA895C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8560" y="1238400"/>
            <a:ext cx="933480" cy="492120"/>
          </a:xfrm>
          <a:prstGeom prst="rect">
            <a:avLst/>
          </a:prstGeom>
          <a:solidFill>
            <a:srgbClr val="ddff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ject Partn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68560" y="1965240"/>
            <a:ext cx="933480" cy="492120"/>
          </a:xfrm>
          <a:prstGeom prst="rect">
            <a:avLst/>
          </a:prstGeom>
          <a:solidFill>
            <a:srgbClr val="ddff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000" y="3416400"/>
            <a:ext cx="93348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cess Integration &amp; Testing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9960" y="3416400"/>
            <a:ext cx="93528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olution Architecture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160" y="3416400"/>
            <a:ext cx="93348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Business Systems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0920" y="3416400"/>
            <a:ext cx="93348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Network Systems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35800" y="3416400"/>
            <a:ext cx="93492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Integration &amp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Development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91560" y="3416400"/>
            <a:ext cx="93348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echnical Infrastructure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45040" y="2363760"/>
            <a:ext cx="934920" cy="49212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ject Office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3" idx="0"/>
            <a:endCxn id="42" idx="2"/>
          </p:cNvCxnSpPr>
          <p:nvPr/>
        </p:nvCxnSpPr>
        <p:spPr>
          <a:xfrm flipH="1" flipV="1" rot="5400000">
            <a:off x="2002320" y="1083600"/>
            <a:ext cx="959400" cy="3706920"/>
          </a:xfrm>
          <a:prstGeom prst="bentConnector3">
            <a:avLst>
              <a:gd name="adj1" fmla="val 495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0"/>
            <a:endCxn id="42" idx="2"/>
          </p:cNvCxnSpPr>
          <p:nvPr/>
        </p:nvCxnSpPr>
        <p:spPr>
          <a:xfrm flipH="1" flipV="1" rot="5400000">
            <a:off x="2706840" y="1788120"/>
            <a:ext cx="959400" cy="2297880"/>
          </a:xfrm>
          <a:prstGeom prst="bentConnector3">
            <a:avLst>
              <a:gd name="adj1" fmla="val 495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3438720" y="2520360"/>
            <a:ext cx="959400" cy="833760"/>
          </a:xfrm>
          <a:prstGeom prst="bentConnector3">
            <a:avLst>
              <a:gd name="adj1" fmla="val 495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6" idx="0"/>
            <a:endCxn id="42" idx="2"/>
          </p:cNvCxnSpPr>
          <p:nvPr/>
        </p:nvCxnSpPr>
        <p:spPr>
          <a:xfrm flipV="1" rot="16200000">
            <a:off x="4386600" y="2405520"/>
            <a:ext cx="959400" cy="1062720"/>
          </a:xfrm>
          <a:prstGeom prst="bentConnector3">
            <a:avLst>
              <a:gd name="adj1" fmla="val 495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7" idx="0"/>
            <a:endCxn id="42" idx="2"/>
          </p:cNvCxnSpPr>
          <p:nvPr/>
        </p:nvCxnSpPr>
        <p:spPr>
          <a:xfrm flipV="1" rot="16200000">
            <a:off x="5189400" y="1602720"/>
            <a:ext cx="959400" cy="2668320"/>
          </a:xfrm>
          <a:prstGeom prst="bentConnector3">
            <a:avLst>
              <a:gd name="adj1" fmla="val 495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8" idx="0"/>
            <a:endCxn id="42" idx="2"/>
          </p:cNvCxnSpPr>
          <p:nvPr/>
        </p:nvCxnSpPr>
        <p:spPr>
          <a:xfrm flipV="1" rot="16200000">
            <a:off x="5866920" y="925200"/>
            <a:ext cx="959400" cy="4023360"/>
          </a:xfrm>
          <a:prstGeom prst="bentConnector3">
            <a:avLst>
              <a:gd name="adj1" fmla="val 495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9" idx="1"/>
            <a:endCxn id="42" idx="2"/>
          </p:cNvCxnSpPr>
          <p:nvPr/>
        </p:nvCxnSpPr>
        <p:spPr>
          <a:xfrm rot="10800000">
            <a:off x="4335120" y="2457000"/>
            <a:ext cx="710280" cy="152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" name=""/>
          <p:cNvSpPr/>
          <p:nvPr/>
        </p:nvSpPr>
        <p:spPr>
          <a:xfrm>
            <a:off x="1420920" y="4032360"/>
            <a:ext cx="139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usiness Design Architect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Network Systems Architect*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echnical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ata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Architecture/Documentation Analy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58680" y="3990960"/>
            <a:ext cx="1317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Integration Designer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iddleware/interface Developer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28480" y="4027320"/>
            <a:ext cx="126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onfiguration Mngmt  Speciali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Unix Systems Specialist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NT Systems Specialis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Web Technology Speciali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Security Speciali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B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9960" y="3906720"/>
            <a:ext cx="33660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89160" y="4111560"/>
            <a:ext cx="0" cy="19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89160" y="4203720"/>
            <a:ext cx="888840" cy="296640"/>
            <a:chOff x="3089160" y="4203720"/>
            <a:chExt cx="888840" cy="296640"/>
          </a:xfrm>
        </p:grpSpPr>
        <p:sp>
          <p:nvSpPr>
            <p:cNvPr id="63" name=""/>
            <p:cNvSpPr/>
            <p:nvPr/>
          </p:nvSpPr>
          <p:spPr>
            <a:xfrm>
              <a:off x="3089160" y="4275000"/>
              <a:ext cx="1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91400" y="4203720"/>
              <a:ext cx="786600" cy="2966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eCRM T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89160" y="5113440"/>
            <a:ext cx="888840" cy="296280"/>
            <a:chOff x="3089160" y="5113440"/>
            <a:chExt cx="888840" cy="296280"/>
          </a:xfrm>
        </p:grpSpPr>
        <p:sp>
          <p:nvSpPr>
            <p:cNvPr id="66" name=""/>
            <p:cNvSpPr/>
            <p:nvPr/>
          </p:nvSpPr>
          <p:spPr>
            <a:xfrm>
              <a:off x="3089160" y="5184720"/>
              <a:ext cx="1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1400" y="5113440"/>
              <a:ext cx="786600" cy="29628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Billing/OM T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 flipH="1">
            <a:off x="4938480" y="3927600"/>
            <a:ext cx="33804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4132440"/>
            <a:ext cx="0" cy="18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29120" y="4224240"/>
            <a:ext cx="888840" cy="294840"/>
            <a:chOff x="4929120" y="4224240"/>
            <a:chExt cx="888840" cy="294840"/>
          </a:xfrm>
        </p:grpSpPr>
        <p:sp>
          <p:nvSpPr>
            <p:cNvPr id="71" name=""/>
            <p:cNvSpPr/>
            <p:nvPr/>
          </p:nvSpPr>
          <p:spPr>
            <a:xfrm>
              <a:off x="4929120" y="4295160"/>
              <a:ext cx="1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31360" y="4224240"/>
              <a:ext cx="786600" cy="2948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Mediation T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38840" y="5105520"/>
            <a:ext cx="890280" cy="296280"/>
            <a:chOff x="4938840" y="5105520"/>
            <a:chExt cx="890280" cy="296280"/>
          </a:xfrm>
        </p:grpSpPr>
        <p:sp>
          <p:nvSpPr>
            <p:cNvPr id="74" name=""/>
            <p:cNvSpPr/>
            <p:nvPr/>
          </p:nvSpPr>
          <p:spPr>
            <a:xfrm>
              <a:off x="4938840" y="517716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41080" y="5105520"/>
              <a:ext cx="788040" cy="29628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Provisioning T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929120" y="5951520"/>
            <a:ext cx="888840" cy="296640"/>
            <a:chOff x="4929120" y="5951520"/>
            <a:chExt cx="888840" cy="296640"/>
          </a:xfrm>
        </p:grpSpPr>
        <p:sp>
          <p:nvSpPr>
            <p:cNvPr id="77" name=""/>
            <p:cNvSpPr/>
            <p:nvPr/>
          </p:nvSpPr>
          <p:spPr>
            <a:xfrm>
              <a:off x="4929120" y="6022800"/>
              <a:ext cx="1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31360" y="5951520"/>
              <a:ext cx="786600" cy="2966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NRM T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6021360" y="2436840"/>
            <a:ext cx="1136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Release Manag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ject Controll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ject Office Assis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2" idx="0"/>
            <a:endCxn id="41" idx="2"/>
          </p:cNvCxnSpPr>
          <p:nvPr/>
        </p:nvCxnSpPr>
        <p:spPr>
          <a:xfrm rot="16200000">
            <a:off x="4217760" y="1847880"/>
            <a:ext cx="235080" cy="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5626080" y="1238400"/>
            <a:ext cx="934920" cy="492120"/>
          </a:xfrm>
          <a:prstGeom prst="rect">
            <a:avLst/>
          </a:prstGeom>
          <a:solidFill>
            <a:srgbClr val="ddff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41" idx="3"/>
            <a:endCxn id="81" idx="1"/>
          </p:cNvCxnSpPr>
          <p:nvPr/>
        </p:nvCxnSpPr>
        <p:spPr>
          <a:xfrm>
            <a:off x="4802040" y="1484280"/>
            <a:ext cx="8244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5626080" y="533520"/>
            <a:ext cx="934920" cy="492120"/>
          </a:xfrm>
          <a:prstGeom prst="rect">
            <a:avLst/>
          </a:prstGeom>
          <a:solidFill>
            <a:srgbClr val="ddff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Project Steering Committe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1" idx="0"/>
            <a:endCxn id="83" idx="2"/>
          </p:cNvCxnSpPr>
          <p:nvPr/>
        </p:nvCxnSpPr>
        <p:spPr>
          <a:xfrm rot="16200000">
            <a:off x="5987160" y="1131840"/>
            <a:ext cx="213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42" idx="3"/>
            <a:endCxn id="81" idx="2"/>
          </p:cNvCxnSpPr>
          <p:nvPr/>
        </p:nvCxnSpPr>
        <p:spPr>
          <a:xfrm flipV="1">
            <a:off x="4802040" y="1730520"/>
            <a:ext cx="1291680" cy="48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4720" y="3973680"/>
            <a:ext cx="1171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ocess Designers &amp; Test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CRM S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CRM customer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der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Network mngt &amp; provision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illing &amp; Medi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3440" y="5410080"/>
            <a:ext cx="11469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illing/OM Team Le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Billing Design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Order Mngt Design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1280" y="4572000"/>
            <a:ext cx="9748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CRM Team Le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eCRM Design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Web Develop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CRM Develop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57120" y="6248520"/>
            <a:ext cx="1075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Financial Team Le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G/L Designer/Configur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119400" y="5943600"/>
            <a:ext cx="888840" cy="296640"/>
            <a:chOff x="3119400" y="5943600"/>
            <a:chExt cx="888840" cy="296640"/>
          </a:xfrm>
        </p:grpSpPr>
        <p:sp>
          <p:nvSpPr>
            <p:cNvPr id="91" name=""/>
            <p:cNvSpPr/>
            <p:nvPr/>
          </p:nvSpPr>
          <p:spPr>
            <a:xfrm>
              <a:off x="3119400" y="6014880"/>
              <a:ext cx="11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21640" y="5943600"/>
              <a:ext cx="786600" cy="2966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inancials T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002920" y="4562640"/>
            <a:ext cx="1090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Mediation Design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89520" y="5553000"/>
            <a:ext cx="1174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Provisioning Design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2920" y="6238800"/>
            <a:ext cx="9320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NRM Design Archite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eveloper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0480" y="6400800"/>
            <a:ext cx="2742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*These resources are all participating members from the other workstrea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152280"/>
            <a:ext cx="41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ystem Integration Team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09480"/>
            <a:ext cx="3429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The following resource titles represent the potential roles associated with a SI project. It does not represent the actual number of resources required, which will vary depending upon the 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6:53:19Z</dcterms:created>
  <dc:creator>Deloitte Consulting</dc:creator>
  <dc:description/>
  <dc:language>en-US</dc:language>
  <cp:lastModifiedBy>templateuser</cp:lastModifiedBy>
  <dcterms:modified xsi:type="dcterms:W3CDTF">2001-02-23T13:13:30Z</dcterms:modified>
  <cp:revision>5</cp:revision>
  <dc:subject/>
  <dc:title>PowerPoint Presentation</dc:title>
</cp:coreProperties>
</file>